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41896-3E23-46FA-8F34-717C576BB4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5"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EDF6EAB-CC37-4CBB-BBE8-F524F13F5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8"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3E239CBE-31BC-4E78-BF5D-A2811A8D5A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3"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D98371ED-3D5F-4FDB-BC06-AEDABF6BBD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92ECB2-938A-40BF-8020-B7EBC922AB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3"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A0AC3FC-3ED6-4960-A8C1-751375070E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5"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809DDAA-74EA-4B6C-A5D4-BF0407011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7B47C41-284A-4C66-92AA-72018E8F59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2"/>
          </p:nvPr>
        </p:nvSpPr>
        <p:spPr/>
        <p:txBody>
          <a:bodyPr/>
          <a:p>
            <a:fld id="{5BFEB9E1-5A34-4218-8413-2C298D6A1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F92120AF-FBC9-4348-A7ED-305747968F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2"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C407392-0E1A-44B6-8EFC-8C4983505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1401C4D-A92B-4357-8793-9492039B6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619ED90-4EE4-4C50-B049-DC97F0C499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0"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6E61F62-8D0B-4349-A61E-754D2696A3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4"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F6F49DB-4BC0-4433-A3E7-8AAF0CA2E1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7"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032E891E-EC5C-4245-838A-F7B71F03F3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72"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1D9F94E-1458-48D8-AAB7-2EE4D80FF7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D28845-B7CC-4328-85CC-6A158BA935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2"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76CE82-7CE3-495D-AC60-B4B3EF39EC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4"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8D287C-624B-4440-830C-0E7CA53283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3031B55D-AD8F-4AF6-8E70-D5BC95FDAD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3"/>
          </p:nvPr>
        </p:nvSpPr>
        <p:spPr/>
        <p:txBody>
          <a:bodyPr/>
          <a:p>
            <a:fld id="{DE9FCB5E-2E4A-46A8-BB9F-65CBC8EEB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7421AA4-DA25-4609-9F10-CE37102AF5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31D078E-73E1-42A6-AF10-59534EA66EB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4C3B2DEE-35FA-4494-BC97-5EAC09112E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5"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5EF5C9E7-3A43-4BA8-8EED-C427BE1696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9"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13505A9D-7D5F-449E-B935-E319BB9B02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3"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B42CB9E7-C488-4A0F-A056-0B3674B11D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6"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72BFE4C1-43BC-459E-BA6C-0B5F2DF40C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11"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BF5CC37A-C7B4-471F-8A51-5515B4CC89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F3805BE-5925-4B95-BB58-7EE32D2AD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1"/>
          </p:nvPr>
        </p:nvSpPr>
        <p:spPr/>
        <p:txBody>
          <a:bodyPr/>
          <a:p>
            <a:fld id="{65BA8C96-FF42-4D9F-9085-4242BA68C3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0EFEEC0-A502-4BE4-B75D-1266B12B9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3"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78F516F-A56C-49C7-BC7D-669132C9C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199DC9F-D77D-43E8-AD2D-F428CDDB5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F225747-9E8F-4E3D-8A0C-0E213DDD4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CF70-ADD7-4165-AD3F-EB5ED97311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E338-34CC-4DA0-A20A-494F291F84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DD55-A0D0-4562-83A6-8AAC3D9534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18960" y="1752480"/>
            <a:ext cx="8825040" cy="5129280"/>
            <a:chOff x="318960" y="1752480"/>
            <a:chExt cx="8825040" cy="5129280"/>
          </a:xfrm>
        </p:grpSpPr>
        <p:sp>
          <p:nvSpPr>
            <p:cNvPr id="118" name=""/>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19" name=""/>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2" name=""/>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24"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2479-4ED5-4AEA-9115-25B5F26D78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26"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18960" y="1828800"/>
            <a:ext cx="8825040" cy="5029200"/>
            <a:chOff x="318960" y="1828800"/>
            <a:chExt cx="8825040" cy="5029200"/>
          </a:xfrm>
        </p:grpSpPr>
        <p:sp>
          <p:nvSpPr>
            <p:cNvPr id="130"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1"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2"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3"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4"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5"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7"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38"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8A3B-435C-462B-B6CC-9EA3CC33002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4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318960" y="1828800"/>
            <a:ext cx="8825040" cy="5029200"/>
            <a:chOff x="318960" y="1828800"/>
            <a:chExt cx="8825040" cy="5029200"/>
          </a:xfrm>
        </p:grpSpPr>
        <p:sp>
          <p:nvSpPr>
            <p:cNvPr id="142"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3"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5"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6"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7"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8"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50"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1D6A-9207-4862-A88B-8A61F042FA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52"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318960" y="1828800"/>
            <a:ext cx="8825040" cy="5029200"/>
            <a:chOff x="318960" y="1828800"/>
            <a:chExt cx="8825040" cy="5029200"/>
          </a:xfrm>
        </p:grpSpPr>
        <p:sp>
          <p:nvSpPr>
            <p:cNvPr id="154"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5"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6"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8"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0"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1"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62"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6C2F-D3D7-44E6-B46C-9EC535FA40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64"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18960" y="1828800"/>
            <a:ext cx="8825040" cy="5029200"/>
            <a:chOff x="318960" y="1828800"/>
            <a:chExt cx="8825040" cy="5029200"/>
          </a:xfrm>
        </p:grpSpPr>
        <p:sp>
          <p:nvSpPr>
            <p:cNvPr id="166"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7"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9"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2"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3"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7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17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3579-1E88-41FB-8A00-6A2164D5A4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FF9EF65-2999-4D91-8242-726681565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318960" y="1828800"/>
            <a:ext cx="8825040" cy="5029200"/>
            <a:chOff x="318960" y="1828800"/>
            <a:chExt cx="8825040" cy="5029200"/>
          </a:xfrm>
        </p:grpSpPr>
        <p:sp>
          <p:nvSpPr>
            <p:cNvPr id="17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8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257-BCEC-4716-A6EA-63F7FFD8FD7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33F0F59-EE58-445E-8F41-A6A3568EAA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318960" y="1828800"/>
            <a:ext cx="8825040" cy="5029200"/>
            <a:chOff x="318960" y="1828800"/>
            <a:chExt cx="8825040" cy="5029200"/>
          </a:xfrm>
        </p:grpSpPr>
        <p:sp>
          <p:nvSpPr>
            <p:cNvPr id="18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9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6FF8-B32E-4B52-907F-35AF32F846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728E396-A815-4AA7-ACCD-5E242B561FC4}"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