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815D1-66DC-4447-97CA-909408F95D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90D26-0858-4656-9AC8-69D42A696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DF7D52-AD3F-408B-9957-1523081A66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1D940-4F05-414C-972E-0CAF33DD4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8CDB5C-CFA6-4BA1-A65C-59DEF7E04F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A61A90-4A1C-4215-AE16-08BE41CB19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0A3DFA-2572-4EFA-8D36-D0E10B1D19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6AC2574-D052-4EC1-BD1B-48C0FDF535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4BFBE48-8222-4D8C-B11D-E5987C099E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CF46D91-D885-49D7-A9A3-31ACCCC949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FE070C6-BB36-4E47-A52F-259897852E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A3D51-6994-497A-BF6F-BC9FCF5D4B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4EDEE08-0650-4EBC-975B-FD1311953E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54E4A1E-B082-4373-842C-683C4A4525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45C560D-A2FA-4D09-9A14-CAC97F8FD1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2A989D4-4C3C-47DE-AF77-9FBA073018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3CDF538-200E-4079-8044-F9981025E53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293296-A0E5-4840-911B-27033CA509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DEAF3A-30B6-4BD8-AD90-40B4B4F216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81ED43-F61E-4F56-AAD9-EE64271131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0B3ED28-15D7-4EC4-8147-DB8A864C63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65771E6-AA30-44DA-AC44-466A8F4581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E7466-7EFC-4BEE-A144-9846A8702E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7CE73FE-85D2-4A2F-B452-75DE22523D0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A96B9D5-DEB6-44D8-B2A1-0B0F475B92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A6DC432-CE10-403B-B338-363179671F3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3D46375-A01D-43BB-9F21-75E1AC5020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0F272F6-D19D-4C2E-9E0B-58EE50402A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0D5E8B3-88EB-40D3-9C14-56DC0F38B48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7B9A37D-0E8D-4432-BD48-8DF195F0A2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F91F1-1986-4503-BF96-945C71065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241F6-4D9F-477B-9153-757486C34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D7B90-E151-4A75-8289-67F66C1AE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F61F7-3CB6-46FE-A8E1-B9BE5BDA83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FEFF5-702E-48CC-8070-F9E024B56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C5FD2-042C-40BA-B8B5-C62B83276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ACBCA-DE4D-49AF-AAF9-9F6E9DA6A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4060B-AB13-4A6B-BD85-1C0BF4595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E3317-84D6-446A-9ADB-9092E0383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90DAE-1707-4E01-A877-2C8D564F4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EF20E-E7C5-4440-A43D-8207CB6CA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2AF7B-4A56-4E59-B386-80051F1BB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25CD7-DB1C-4400-9C8A-433322A38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FC92CF-9243-4AED-AAFD-18E8D546D7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160CCB8-3B16-4660-908D-62A5EBB0EC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5C0A9-2073-4764-8935-ADF5E59A55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EC09A-E608-41AF-BE78-ABB33E6F30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DD4D6-3D7A-4AB2-8906-5F6424E700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F71F-20C9-48D5-9081-FBF1CA8CEB93}"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0764-9935-417C-9932-8501E4996A40}"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3C45-E954-489F-A61D-369E9A2F1F27}"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5AF4-1B2E-4582-A13E-DA62865C0E84}"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6" name="PlaceHolder 2"/>
          <p:cNvSpPr>
            <a:spLocks noGrp="1"/>
          </p:cNvSpPr>
          <p:nvPr>
            <p:ph/>
          </p:nvPr>
        </p:nvSpPr>
        <p:spPr>
          <a:xfrm>
            <a:off x="1600200" y="3885840"/>
            <a:ext cx="6781680" cy="152388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 name="Group 1"/>
          <p:cNvGrpSpPr/>
          <p:nvPr/>
        </p:nvGrpSpPr>
        <p:grpSpPr>
          <a:xfrm>
            <a:off x="318960" y="1828800"/>
            <a:ext cx="8825040" cy="5029200"/>
            <a:chOff x="318960" y="1828800"/>
            <a:chExt cx="8825040" cy="5029200"/>
          </a:xfrm>
        </p:grpSpPr>
        <p:sp>
          <p:nvSpPr>
            <p:cNvPr id="170"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1"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267080"/>
          </a:xfrm>
          <a:prstGeom prst="rect">
            <a:avLst/>
          </a:prstGeom>
          <a:noFill/>
          <a:ln w="0">
            <a:noFill/>
          </a:ln>
        </p:spPr>
        <p:txBody>
          <a:bodyPr lIns="50760" rIns="13212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0" name="Group 1"/>
          <p:cNvGrpSpPr/>
          <p:nvPr/>
        </p:nvGrpSpPr>
        <p:grpSpPr>
          <a:xfrm>
            <a:off x="318960" y="1828800"/>
            <a:ext cx="8825040" cy="5029200"/>
            <a:chOff x="318960" y="1828800"/>
            <a:chExt cx="8825040" cy="5029200"/>
          </a:xfrm>
        </p:grpSpPr>
        <p:sp>
          <p:nvSpPr>
            <p:cNvPr id="18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19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a:t>
            </a:r>
            <a:r>
              <a:rPr b="0" lang="en-US" sz="1800" spc="-1" strike="noStrike">
                <a:solidFill>
                  <a:srgbClr val="ffffff"/>
                </a:solidFill>
                <a:latin typeface="Arial"/>
              </a:rPr>
              <a:t>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ヒラギノ角ゴ ProN W6"/>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1" name="Group 1"/>
          <p:cNvGrpSpPr/>
          <p:nvPr/>
        </p:nvGrpSpPr>
        <p:grpSpPr>
          <a:xfrm>
            <a:off x="318960" y="1828800"/>
            <a:ext cx="8825040" cy="5029200"/>
            <a:chOff x="318960" y="1828800"/>
            <a:chExt cx="8825040" cy="5029200"/>
          </a:xfrm>
        </p:grpSpPr>
        <p:sp>
          <p:nvSpPr>
            <p:cNvPr id="192"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3"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4"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5"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It is our home</a:t>
            </a:r>
            <a:endParaRPr b="0"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800600"/>
          </a:xfrm>
          <a:prstGeom prst="rect">
            <a:avLst/>
          </a:prstGeom>
          <a:noFill/>
          <a:ln w="0">
            <a:noFill/>
          </a:ln>
        </p:spPr>
        <p:txBody>
          <a:bodyPr lIns="50760" rIns="132120" tIns="50760" bIns="50760" anchor="t">
            <a:normAutofit fontScale="96000"/>
          </a:bodyPr>
          <a:p>
            <a:pPr marL="36720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a:p>
            <a:pPr marL="36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66ff66"/>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1371600"/>
            <a:ext cx="3706920" cy="480060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04" name=""/>
          <p:cNvSpPr/>
          <p:nvPr/>
        </p:nvSpPr>
        <p:spPr>
          <a:xfrm>
            <a:off x="5105520" y="1371600"/>
            <a:ext cx="380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ândido Rondon helped establish the </a:t>
            </a:r>
            <a:r>
              <a:rPr b="0" lang="en-US" sz="1800" spc="-1" strike="noStrike">
                <a:solidFill>
                  <a:srgbClr val="ffffff"/>
                </a:solidFill>
                <a:latin typeface="Arial"/>
              </a:rPr>
              <a:t>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txBox="1"/>
          <p:nvPr/>
        </p:nvSpPr>
        <p:spPr>
          <a:xfrm>
            <a:off x="5715000" y="228600"/>
            <a:ext cx="2133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ri Nguye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Jaguar Tribe]</a:t>
            </a:r>
            <a:endParaRPr b="0" lang="en-US" sz="1800" spc="1" strike="noStrike">
              <a:ln w="9360">
                <a:solidFill>
                  <a:srgbClr val="000000"/>
                </a:solidFill>
                <a:miter/>
              </a:ln>
              <a:solidFill>
                <a:srgbClr val="ffffff"/>
              </a:solidFill>
              <a:latin typeface="Arial Black"/>
              <a:ea typeface="Arial Black"/>
            </a:endParaRPr>
          </a:p>
        </p:txBody>
      </p:sp>
      <p:sp>
        <p:nvSpPr>
          <p:cNvPr id="209" name=""/>
          <p:cNvSpPr txBox="1"/>
          <p:nvPr/>
        </p:nvSpPr>
        <p:spPr>
          <a:xfrm>
            <a:off x="6781680" y="4572000"/>
            <a:ext cx="2057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lias Osio</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orubos Tribe]</a:t>
            </a:r>
            <a:endParaRPr b="0" lang="en-US" sz="1800" spc="1" strike="noStrike">
              <a:ln w="9360">
                <a:solidFill>
                  <a:srgbClr val="000000"/>
                </a:solidFill>
                <a:miter/>
              </a:ln>
              <a:solidFill>
                <a:srgbClr val="ffffff"/>
              </a:solidFill>
              <a:latin typeface="Arial Black"/>
              <a:ea typeface="Arial Black"/>
            </a:endParaRPr>
          </a:p>
        </p:txBody>
      </p:sp>
      <p:sp>
        <p:nvSpPr>
          <p:cNvPr id="210" name=""/>
          <p:cNvSpPr txBox="1"/>
          <p:nvPr/>
        </p:nvSpPr>
        <p:spPr>
          <a:xfrm>
            <a:off x="228600" y="2286000"/>
            <a:ext cx="2133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ex Lemair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tsés Tribe]</a:t>
            </a:r>
            <a:endParaRPr b="0" lang="en-US" sz="1800" spc="1" strike="noStrike">
              <a:ln w="9360">
                <a:solidFill>
                  <a:srgbClr val="000000"/>
                </a:solidFill>
                <a:miter/>
              </a:ln>
              <a:solidFill>
                <a:srgbClr val="ffffff"/>
              </a:solidFill>
              <a:latin typeface="Arial Black"/>
              <a:ea typeface="Arial Black"/>
            </a:endParaRPr>
          </a:p>
        </p:txBody>
      </p:sp>
      <p:sp>
        <p:nvSpPr>
          <p:cNvPr id="211" name=""/>
          <p:cNvSpPr/>
          <p:nvPr/>
        </p:nvSpPr>
        <p:spPr>
          <a:xfrm flipV="1">
            <a:off x="137160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txBox="1"/>
          <p:nvPr/>
        </p:nvSpPr>
        <p:spPr>
          <a:xfrm>
            <a:off x="228600" y="4724280"/>
            <a:ext cx="2019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IEN DEVIC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123</cp:lastModifiedBy>
  <dcterms:modified xsi:type="dcterms:W3CDTF">2009-01-27T04:16:35Z</dcterms:modified>
  <cp:revision>18</cp:revision>
  <dc:subject/>
  <dc:title>Native Peoples</dc:title>
</cp:coreProperties>
</file>