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824DF-15FB-4097-AFE4-AF7BAC5163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B2F2C7-5A7D-4289-B137-7F11B28994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A45A5C-8C36-4D3F-A2B0-D76EE23FF7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DDF850-8EE3-49D5-98C8-20AC318D4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6FDB4F-37DD-4CA5-83AB-A9114B7EBD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3ED2B8-C858-448A-9A60-1CE1E41DEB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758871-9EC2-453E-9654-3152A071F64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99E837E-EDB0-4757-972C-7CB44A6B0B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B832BE8-4BF9-40BC-87AC-FC320F7D2EE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59D5D8D-898B-4F7A-992D-E95125286C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F965499-3734-4E4C-B429-FD62C507E9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77537-CC2D-4F71-93EA-4AC16E02C4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DA513C2-3095-492A-91AA-7CBE7C9F81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EBF87C5-4C76-4524-B2B3-F2EF7BB425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35D6B0A-56C0-4B92-8A30-B500A6C2C0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553558E7-7AD0-4E71-994B-4F99F6C9DB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7689A4D-64AC-4F6C-B82D-23E74F9B48B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0CBA4A7-9679-4ED1-A581-2C350750B3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D4908BC-6D2B-4371-8039-C655965D9C2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C6D462-FEEA-442C-9C6E-4BC7E36E05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BA7CA01-FBD6-4D7C-8037-67805E1193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F54BEC6B-48E0-4B7D-BA36-ECBC571FC6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AB21-E37C-4108-AA5B-47F8196507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FD670C15-AF9A-45D2-9E49-12BAF5A8A27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8CA4CA2-FF4A-4D32-9C0B-E49A6A33659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BA41922-F2BD-4AE8-A748-E289D24154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B7A7CE5-465E-4614-A8C3-B983ED13209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D7F00F9-016E-4325-8698-9890F0FA85E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530832C-B31E-43F3-9DE7-D09E6A278C2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E94FAA2-EE07-4BAA-B777-AAC233382DA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E4C13A-EE95-4C38-82A6-35F29D168D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5600B-7281-4DD5-9204-0942F0A02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8930F-89A7-47A4-B67E-9B60167CD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C388B5-6CB7-4F26-98E3-CB18AD3CAFC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AC40E9-72D2-43CC-B1F2-FA15D86D4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3A87A-7842-47B0-A4CD-BDA3E5063C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15843-370E-4708-BCA5-2A850E0ED2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4558D-EB02-4B24-A054-BEF966E30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A0ADB-31B0-4C66-8317-38F37C79E8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A8658-6A02-44D0-A762-4B1FB31A33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47977D-BA75-44C9-9D10-C68A682BB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0351C-6EE5-4BED-9878-D79C85BF9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E3EAF7-FD12-422E-8490-4757AD9ED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936809-C5B5-4823-AFA7-389996F7A6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CD1028B-6E6E-483B-AF86-BE2F579B3E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98D17-CAE2-4D2B-93B9-EC497C004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C23E41-F19D-448B-B296-236CF25F8F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C2437F-D1C3-46CC-A706-D7EEE4E635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4C9A8-FCF4-4362-A75A-022614178355}"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86787-FDE5-47CD-8999-F647B07ED96E}"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63538-C7ED-48C2-B745-FFCEA5898EDE}"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8729-5008-46FF-805C-454EE783CAB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txBox="1"/>
          <p:nvPr/>
        </p:nvSpPr>
        <p:spPr>
          <a:xfrm>
            <a:off x="5715000" y="228600"/>
            <a:ext cx="2133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ri Nguye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aguar Tribe]</a:t>
            </a:r>
            <a:endParaRPr b="0" lang="en-US" sz="1800" spc="1" strike="noStrike">
              <a:ln w="9360">
                <a:solidFill>
                  <a:srgbClr val="000000"/>
                </a:solidFill>
                <a:miter/>
              </a:ln>
              <a:solidFill>
                <a:srgbClr val="ffffff"/>
              </a:solidFill>
              <a:latin typeface="Arial Black"/>
              <a:ea typeface="Arial Black"/>
            </a:endParaRPr>
          </a:p>
        </p:txBody>
      </p:sp>
      <p:sp>
        <p:nvSpPr>
          <p:cNvPr id="209" name=""/>
          <p:cNvSpPr txBox="1"/>
          <p:nvPr/>
        </p:nvSpPr>
        <p:spPr>
          <a:xfrm>
            <a:off x="6781680" y="457200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lias Osio</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orubos Tribe]</a:t>
            </a:r>
            <a:endParaRPr b="0" lang="en-US" sz="1800" spc="1" strike="noStrike">
              <a:ln w="9360">
                <a:solidFill>
                  <a:srgbClr val="000000"/>
                </a:solidFill>
                <a:miter/>
              </a:ln>
              <a:solidFill>
                <a:srgbClr val="ffffff"/>
              </a:solidFill>
              <a:latin typeface="Arial Black"/>
              <a:ea typeface="Arial Black"/>
            </a:endParaRPr>
          </a:p>
        </p:txBody>
      </p:sp>
      <p:sp>
        <p:nvSpPr>
          <p:cNvPr id="210" name=""/>
          <p:cNvSpPr txBox="1"/>
          <p:nvPr/>
        </p:nvSpPr>
        <p:spPr>
          <a:xfrm>
            <a:off x="228600" y="2286000"/>
            <a:ext cx="2133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ex Lemair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tsés Tribe]</a:t>
            </a:r>
            <a:endParaRPr b="0" lang="en-US" sz="1800" spc="1" strike="noStrike">
              <a:ln w="9360">
                <a:solidFill>
                  <a:srgbClr val="000000"/>
                </a:solidFill>
                <a:miter/>
              </a:ln>
              <a:solidFill>
                <a:srgbClr val="ffffff"/>
              </a:solidFill>
              <a:latin typeface="Arial Black"/>
              <a:ea typeface="Arial Black"/>
            </a:endParaRPr>
          </a:p>
        </p:txBody>
      </p:sp>
      <p:sp>
        <p:nvSpPr>
          <p:cNvPr id="211" name=""/>
          <p:cNvSpPr/>
          <p:nvPr/>
        </p:nvSpPr>
        <p:spPr>
          <a:xfrm flipV="1">
            <a:off x="137160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txBox="1"/>
          <p:nvPr/>
        </p:nvSpPr>
        <p:spPr>
          <a:xfrm>
            <a:off x="228600" y="4724280"/>
            <a:ext cx="2019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IEN DEVIC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123</cp:lastModifiedBy>
  <dcterms:modified xsi:type="dcterms:W3CDTF">2009-01-27T04:16:35Z</dcterms:modified>
  <cp:revision>18</cp:revision>
  <dc:subject/>
  <dc:title>Native Peoples</dc:title>
</cp:coreProperties>
</file>