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C77A7-23A4-41D4-BA89-F708139778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260B2-8D4A-41F4-8800-A6C283F112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56619-86F5-4BFF-A830-90AA08F81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C54BEA-1E9D-4458-889C-D6EA8CCD82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C2B3EC-CF53-45CB-855E-2ECD58114D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18EC6-625D-41A0-9775-CD070FB2D2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C9D481-E718-4423-A30B-34D1D903E5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31BCB4-6F43-4F0F-82EA-6842F31462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BA3385F-387F-4C85-A7D1-B6EE2B865A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AD1CE68-0D5C-4080-864F-4139BF6CA9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585322-A9EB-43D3-BD00-D3837898B3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C366E-04FE-4835-B803-D34C62F3AB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5800C4-6E7D-4C08-BEB1-B0B70738BC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8FD57D-3353-4B3A-94BB-4DF6EE4BCA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05F7952-EE2F-42E3-9883-7EDEAAACF8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7891A7C-8AD1-40AB-BBC9-CE640242DE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527409C-0D9B-4A74-A975-8ACC51824A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42E40B-3230-4846-9C2B-229B10DFEA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EC2E5F-D2BC-4CFA-BCE1-967A6CD1BE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B3C74E3-0B1F-4CEA-A8FA-622124438F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397EFA5-772C-4087-BD5E-39620AB97D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E240091-D1CE-4D67-ABBE-8FE218ECBC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42402-DD2B-4317-A515-F50C50582A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F4F0D0F-BD49-469C-9CB7-3F5DD50B91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589BE08-539E-41FF-AA36-F07A6821C3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4FC931A-A04D-478A-95D7-59C2E5E99B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0426E37-6F43-4438-9FF9-C8254BD853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CECC0C3-65AE-4728-9ABB-19818EB5EB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E4A461B-AAC3-4D57-8E45-D1F82E3D87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707786B-D105-45DC-8481-34F263008A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B2C2D-054A-405C-8F64-9D395EA1B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A9113-4367-4F1C-8D5A-AF1B3DAA0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2ECC0-FA5B-4650-9E3F-0250E0CDB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E8B06-F924-4613-B8CA-67211430EF1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511D2-FB05-40D2-90A0-32313E9B0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A4389-DDC3-4C5B-B3FD-1F51054F4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C0B46-D228-45D6-AE6E-DE8A3AFC6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09732-45E6-431A-BE3D-4477904DA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9E36A-7C35-4910-B415-963312912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0A6EB-9EDB-46F6-B207-EC274F2C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694BE-224C-4893-B237-242BED405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A7387-3C02-41BB-96EC-5C67DDA77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284CA-77F7-41CE-9177-95D96A0C4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786236-98E6-4048-B2AF-C39B12C6A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790DC53-FF4C-4F6E-B60A-00D0F53C5C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00436-017F-4DCA-9767-F7F082E775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2B739-BB38-467D-8B06-820C4B90B9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388E3-89A7-4912-BBBA-B2CDFEB76C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8C1F-50B6-4ABD-AE83-D82BB74419C9}"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6861-5FCF-4D6C-93DC-6FFDEC7F75A1}"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7AC3-9558-416F-A648-F2ACE9974AFB}"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E17D-A9A2-4773-A517-212CD6F273B5}"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LocalUser</cp:lastModifiedBy>
  <dcterms:modified xsi:type="dcterms:W3CDTF">2009-01-26T23:31:46Z</dcterms:modified>
  <cp:revision>17</cp:revision>
  <dc:subject/>
  <dc:title>Native Peoples</dc:title>
</cp:coreProperties>
</file>