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1AA51-57C7-4774-AFBF-18B79F57B8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028CB-7A8C-4A27-B844-23D017E92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68A49-B402-4C4C-8E16-8213BA5AF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20FB3-A6E2-47C7-AB8B-06CCA49948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E39AF4-DE86-4C5D-8CB3-F2F980C7A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B6F946-619E-4949-B966-42EA83EF71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0B07B-0EC9-4229-8632-65D7423684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1A02884-1ADC-40BE-ACBE-99B1904EF6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5DD2BC2-EFC2-4CDB-B73D-73F8BB3F27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51EE3DB-11FC-466B-9085-41B8FEE53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DA5D7F-5396-49D8-B168-C6FE829F37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657F-DF1C-454E-AF45-976494585A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AE4B03-E7DA-4CA2-B6A6-90D5E192E4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6B9E246-20EF-44FA-A4FD-F51811143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D4994C-36FB-4476-9C1B-324D1F3F76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42B3EB4-DAD2-4852-8470-E047A138B5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E52D355-818E-40DE-90C3-D0F37AEC5F0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A5BF02-D331-4625-AB4F-B813B423F9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D4D504-E9FF-4A29-A851-306F95F3E7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0C40D4-DE24-4776-A442-94557DBF00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313F70B-C116-49C9-AF08-8A13D73C0F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FD29BA4-ED87-49B2-80FD-50C835F09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D524-5225-4D53-987B-B57E8210B6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52B812A-7EFD-4310-9A36-104F6A157C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CE3D8A-3F73-48C2-BA2B-FAE3A108AD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E9DC73D-232C-48FD-B67E-B982D21796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0707FCD-6EF8-411F-BAD4-1C325B0FB5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B433752-7927-46E8-936E-C253B73F23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2011C06-6964-437E-B85C-08214EEB67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033CC0F-C879-47A2-A948-7225C44960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CFEE6-62D1-4BB0-B5E6-CFB2BD992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B728B-402D-460E-9AE1-1590F8171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788A7-1727-4F1B-8722-8FE4AAEC5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122D1-65C7-4A63-A76E-37EED6EDAC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9EC84-63AA-4705-B01D-2B01E7E18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3D25A-2174-4A19-A7B0-FA30D1F28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366B4-AD07-44C1-A589-7AABB9979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A290-4AE0-420C-995B-C482BB994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DDA76-7A63-455D-816E-B46CE9D15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A5300-C7AF-40CC-BB78-A0DC3502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CBDA1-B6F6-4355-9561-AAA523AFE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1D082-ED11-45B2-8463-205C9B6AD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21B34-1BDC-42C1-A57D-59D24FC3A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FDCF5-6665-448B-A7E9-7C71B857F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3F19D18-733A-4C88-80D0-0F6272011A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890FB-C036-43C8-81B3-640E7EBABE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F316A-80F4-47E9-9786-3F4BFFDB5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309D9-4AC5-4A36-9E79-0E84E828E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B351-CFA8-44D8-9D35-30C7F4008227}"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0A98-36C0-4277-A8D1-EFAC5EE7F36A}"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298B-468F-4E94-A3BB-1CB1B6FF6C72}"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F750-33C1-4092-955B-D9B378A82AA8}"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LocalUser</cp:lastModifiedBy>
  <dcterms:modified xsi:type="dcterms:W3CDTF">2009-01-26T23:31:46Z</dcterms:modified>
  <cp:revision>17</cp:revision>
  <dc:subject/>
  <dc:title>Native Peoples</dc:title>
</cp:coreProperties>
</file>