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DBBFDE-752E-48C5-B362-D066D5C6CF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1B33DA-856D-4350-8CD6-B93C950BDF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69E71F-1F86-45E3-8992-4F9B94FBC3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1239DA-63A6-49B2-97B5-2B7C8A1F4E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E34E944-76F9-4CD4-A68C-001DE32C13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8E2111-4405-4189-B5E8-0AAD5A6D57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60CD85-FAE7-4F5A-B599-93C5DA74459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026336E-5358-4387-BC73-D5BA0290D6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0B87B521-2799-4D2F-B396-8C40A81778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9A75D94-28B7-4F60-8B59-1DA9931BCA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43D4215-76A0-4638-BAFA-5881F092F4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C8EB9-064A-4241-88D6-F868D333C8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56C7547-52A2-466B-B5BD-0804152C48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FB9EBF6-8295-42E0-B56A-4669814431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7EFFAB1-8312-478F-85F4-A80DAE790D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7DC1658-803B-4B69-9E9C-D2846187D5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1F4FC8A-78B5-4117-9D2A-78B08F828EE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683AE10-93E0-41DF-8B7A-3B664A1FC62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5629BAF-BD4D-48A1-BCA0-945A58735DF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BED721F-DD71-4E14-8D2E-6959F930313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AAD8859-E56B-4B9C-A350-2409F70193D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67AA747-66D2-4AE1-934E-20F85FE60D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9788C-01CA-49ED-B69B-B4D6D7714DE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FBB979E-32E2-4D08-910F-10A0FFC3C82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FCFD7AF-9608-42E5-8642-76357E994AC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5D693F0-2D45-44D6-A3FF-B423830CB4A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18D4555-4F1E-4B9F-A24D-7A306FE5436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5431FA8-D29B-4107-868D-5C95430C88B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6D5BFBB1-3B26-40E6-AA4E-81CA1D10131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117C4215-FA3E-4375-819F-074F443351C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E85E24-EEDB-4E35-AF3C-866B37F6D7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E1EA2-63CB-44AC-9436-927E6C138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2D312-0DED-4DA9-9CEA-0A3D608B3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6B0B3D-4AFD-4F9D-B51C-BC1393131FA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08321-9641-498A-922B-34232B082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22046-5059-4680-923F-B4A91874E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15491-53CC-49C7-AC9B-816F82AF2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0C301-A1B7-487C-9710-1C622B616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30D4D-CFA1-4EB7-B664-E56844DAE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3D2F4-255D-4371-80A1-2AF581F59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B65ED-B66A-4CC2-8E6E-D6DEC98D8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5CF16-030D-4FA4-A996-2A66573246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F341C-109A-4954-95FA-DC034A4E05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9C2457-DCF7-4D45-BBE3-8B18E19B0D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CFE502D-67B7-4552-A07B-F6A4D180A9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D6C047-5CCC-4A09-8136-4EC26FF804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DFC80C-5DD9-42DF-B8BA-148E0875E8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DCF177-05CC-42DF-B9E8-5B650ED13B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121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3216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522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EB020-6D13-499A-B757-D42B0E43177B}"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3DEF6-6BCE-4655-861F-465D03E58F6A}"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43ECF-4D4B-482A-9597-716CB0616293}"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79" name="PlaceHolder 2"/>
          <p:cNvSpPr>
            <a:spLocks noGrp="1"/>
          </p:cNvSpPr>
          <p:nvPr>
            <p:ph type="title"/>
          </p:nvPr>
        </p:nvSpPr>
        <p:spPr>
          <a:xfrm>
            <a:off x="457200" y="15840"/>
            <a:ext cx="8385120" cy="18892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0" name="PlaceHolder 3"/>
          <p:cNvSpPr>
            <a:spLocks noGrp="1"/>
          </p:cNvSpPr>
          <p:nvPr>
            <p:ph type="body"/>
          </p:nvPr>
        </p:nvSpPr>
        <p:spPr>
          <a:xfrm>
            <a:off x="837720" y="1905120"/>
            <a:ext cx="8007480" cy="4952880"/>
          </a:xfrm>
          <a:prstGeom prst="rect">
            <a:avLst/>
          </a:prstGeom>
          <a:noFill/>
          <a:ln w="0">
            <a:noFill/>
          </a:ln>
        </p:spPr>
        <p:txBody>
          <a:bodyPr lIns="50760" rIns="9000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188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8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904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462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ffffff"/>
              </a:solidFill>
              <a:latin typeface="Arial"/>
            </a:endParaRPr>
          </a:p>
        </p:txBody>
      </p:sp>
      <p:sp>
        <p:nvSpPr>
          <p:cNvPr id="12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ffffff"/>
              </a:solidFill>
              <a:latin typeface="Arial"/>
            </a:endParaRPr>
          </a:p>
        </p:txBody>
      </p:sp>
      <p:sp>
        <p:nvSpPr>
          <p:cNvPr id="12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9E1AE-EEF1-4544-BB68-E159E93D4240}"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8" name="Group 1"/>
          <p:cNvGrpSpPr/>
          <p:nvPr/>
        </p:nvGrpSpPr>
        <p:grpSpPr>
          <a:xfrm>
            <a:off x="318960" y="1752480"/>
            <a:ext cx="8825040" cy="5129280"/>
            <a:chOff x="318960" y="1752480"/>
            <a:chExt cx="8825040" cy="5129280"/>
          </a:xfrm>
        </p:grpSpPr>
        <p:sp>
          <p:nvSpPr>
            <p:cNvPr id="159" name="AutoShape 2"/>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0" name="AutoShape 3"/>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1" name="AutoShape 4"/>
            <p:cNvSpPr/>
            <p:nvPr/>
          </p:nvSpPr>
          <p:spPr>
            <a:xfrm>
              <a:off x="318960" y="3773520"/>
              <a:ext cx="5484960" cy="4572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2" name="AutoShape 5"/>
            <p:cNvSpPr/>
            <p:nvPr/>
          </p:nvSpPr>
          <p:spPr>
            <a:xfrm>
              <a:off x="838080" y="1752480"/>
              <a:ext cx="77691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3" name="AutoShape 6"/>
            <p:cNvSpPr/>
            <p:nvPr/>
          </p:nvSpPr>
          <p:spPr>
            <a:xfrm>
              <a:off x="318960" y="3773520"/>
              <a:ext cx="4752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4" name="AutoShape 7"/>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5" name="PlaceHolder 1"/>
          <p:cNvSpPr>
            <a:spLocks noGrp="1"/>
          </p:cNvSpPr>
          <p:nvPr>
            <p:ph type="title"/>
          </p:nvPr>
        </p:nvSpPr>
        <p:spPr>
          <a:xfrm>
            <a:off x="990720" y="1904760"/>
            <a:ext cx="7772400" cy="1981080"/>
          </a:xfrm>
          <a:prstGeom prst="rect">
            <a:avLst/>
          </a:prstGeom>
          <a:noFill/>
          <a:ln w="0">
            <a:noFill/>
          </a:ln>
        </p:spPr>
        <p:txBody>
          <a:bodyPr lIns="50760" rIns="132120" tIns="50760" bIns="5076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166" name="PlaceHolder 2"/>
          <p:cNvSpPr>
            <a:spLocks noGrp="1"/>
          </p:cNvSpPr>
          <p:nvPr>
            <p:ph/>
          </p:nvPr>
        </p:nvSpPr>
        <p:spPr>
          <a:xfrm>
            <a:off x="1600200" y="3885840"/>
            <a:ext cx="6781680" cy="1523880"/>
          </a:xfrm>
          <a:prstGeom prst="rect">
            <a:avLst/>
          </a:prstGeom>
          <a:noFill/>
          <a:ln w="0">
            <a:noFill/>
          </a:ln>
        </p:spPr>
        <p:txBody>
          <a:bodyPr lIns="50760" rIns="13212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16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69" name="Group 1"/>
          <p:cNvGrpSpPr/>
          <p:nvPr/>
        </p:nvGrpSpPr>
        <p:grpSpPr>
          <a:xfrm>
            <a:off x="318960" y="1828800"/>
            <a:ext cx="8825040" cy="5029200"/>
            <a:chOff x="318960" y="1828800"/>
            <a:chExt cx="8825040" cy="5029200"/>
          </a:xfrm>
        </p:grpSpPr>
        <p:sp>
          <p:nvSpPr>
            <p:cNvPr id="170"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1"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2"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3"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4"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5"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6"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7"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78"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1: Entitlement</a:t>
            </a:r>
            <a:endParaRPr b="0"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267080"/>
          </a:xfrm>
          <a:prstGeom prst="rect">
            <a:avLst/>
          </a:prstGeom>
          <a:noFill/>
          <a:ln w="0">
            <a:noFill/>
          </a:ln>
        </p:spPr>
        <p:txBody>
          <a:bodyPr lIns="50760" rIns="13212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land has been handed down unto us by our forefathers long before the corporations and government attempted to corrupt it of its natural resources and beauty. </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re is anybody that should have control over the fate of this land, it is us, not government plans like Avanca Brasil.</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80" name="Group 1"/>
          <p:cNvGrpSpPr/>
          <p:nvPr/>
        </p:nvGrpSpPr>
        <p:grpSpPr>
          <a:xfrm>
            <a:off x="318960" y="1828800"/>
            <a:ext cx="8825040" cy="5029200"/>
            <a:chOff x="318960" y="1828800"/>
            <a:chExt cx="8825040" cy="5029200"/>
          </a:xfrm>
        </p:grpSpPr>
        <p:sp>
          <p:nvSpPr>
            <p:cNvPr id="181"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2"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3"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4"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5"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6"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7"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8"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 2 Abuse</a:t>
            </a:r>
            <a:endParaRPr b="0" lang="en-US" sz="4400" spc="-1" strike="noStrike">
              <a:solidFill>
                <a:srgbClr val="ffffb7"/>
              </a:solidFill>
              <a:latin typeface="Arial Black"/>
            </a:endParaRPr>
          </a:p>
        </p:txBody>
      </p:sp>
      <p:sp>
        <p:nvSpPr>
          <p:cNvPr id="190"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tribes have been driven off and even killed by settlers wanting their land for ranching, farming, timber and oil. Some natives were forced to work in sugar plantations or mines. Between 1900 and 1967, an around 98 tribes were wiped out, simply because of the greed of settlers.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ound the year 1967 agency officials and land speculators of the Indian Protection Service slaughtered our people by purposely giving them disease-laced clothing.</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n 1967, </a:t>
            </a:r>
            <a:r>
              <a:rPr b="0" lang="en-US" sz="1800" spc="-1" strike="noStrike">
                <a:solidFill>
                  <a:srgbClr val="ffffff"/>
                </a:solidFill>
                <a:latin typeface="Arial"/>
              </a:rPr>
              <a:t>construction began on a transcontinental highway which cleared thousands of miles of forests. Our reservations suffered massive deforestation and flooding. Migrants from the project brought new diseases like small-pox, measles and even the common cold, which devastated our population.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ft, forced labor, mass murder, and mistreatment are no way to handle the situation.</a:t>
            </a:r>
            <a:endParaRPr b="0" lang="en-US" sz="1800" spc="-1" strike="noStrike">
              <a:solidFill>
                <a:srgbClr val="ffffff"/>
              </a:solidFill>
              <a:latin typeface="Arial"/>
            </a:endParaRPr>
          </a:p>
          <a:p>
            <a:pPr marL="3826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ヒラギノ角ゴ ProN W6"/>
              </a:rPr>
              <a:t>    </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1" name="Group 1"/>
          <p:cNvGrpSpPr/>
          <p:nvPr/>
        </p:nvGrpSpPr>
        <p:grpSpPr>
          <a:xfrm>
            <a:off x="318960" y="1828800"/>
            <a:ext cx="8825040" cy="5029200"/>
            <a:chOff x="318960" y="1828800"/>
            <a:chExt cx="8825040" cy="5029200"/>
          </a:xfrm>
        </p:grpSpPr>
        <p:sp>
          <p:nvSpPr>
            <p:cNvPr id="192"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3"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4"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5"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6"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7"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8"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9"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0"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3: It is our home</a:t>
            </a:r>
            <a:endParaRPr b="0"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800600"/>
          </a:xfrm>
          <a:prstGeom prst="rect">
            <a:avLst/>
          </a:prstGeom>
          <a:noFill/>
          <a:ln w="0">
            <a:noFill/>
          </a:ln>
        </p:spPr>
        <p:txBody>
          <a:bodyPr lIns="50760" rIns="132120" tIns="50760" bIns="50760" anchor="t">
            <a:normAutofit fontScale="96000"/>
          </a:bodyPr>
          <a:p>
            <a:pPr marL="367200" indent="-3290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inforest is the most species rich biome. It has 2.5 million insect species, 40,000 plants and 2,000 birds and mammals. The natives depend on these animals for food, clothing and other purposes. With the destruction of the rainforest we have lost many species that may never see the Earth again, we must preserve our environment and the life on it.</a:t>
            </a:r>
            <a:endParaRPr b="0" lang="en-US" sz="3200" spc="-1" strike="noStrike">
              <a:solidFill>
                <a:srgbClr val="ffffff"/>
              </a:solidFill>
              <a:latin typeface="Arial"/>
            </a:endParaRPr>
          </a:p>
          <a:p>
            <a:pPr marL="36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66ff66"/>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80880" y="1371600"/>
            <a:ext cx="3706920" cy="480060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ândido Rondon </a:t>
            </a:r>
            <a:endParaRPr b="0" lang="en-US" sz="4400" spc="-1" strike="noStrike">
              <a:solidFill>
                <a:srgbClr val="000000"/>
              </a:solidFill>
              <a:latin typeface="Arial"/>
            </a:endParaRPr>
          </a:p>
        </p:txBody>
      </p:sp>
      <p:sp>
        <p:nvSpPr>
          <p:cNvPr id="204" name=""/>
          <p:cNvSpPr/>
          <p:nvPr/>
        </p:nvSpPr>
        <p:spPr>
          <a:xfrm>
            <a:off x="5105520" y="1371600"/>
            <a:ext cx="3809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ândido Rondon helped establish the </a:t>
            </a:r>
            <a:r>
              <a:rPr b="0" lang="en-US" sz="1800" spc="-1" strike="noStrike">
                <a:solidFill>
                  <a:srgbClr val="ffffff"/>
                </a:solidFill>
                <a:latin typeface="Arial"/>
              </a:rPr>
              <a:t>National Foundation for Indians, which was the first federal agency charged with protecting Indians and preserving their culture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cp:keywords/>
  <dc:language>en-US</dc:language>
  <cp:lastModifiedBy>LocalUser</cp:lastModifiedBy>
  <dcterms:modified xsi:type="dcterms:W3CDTF">2009-01-26T23:31:46Z</dcterms:modified>
  <cp:revision>17</cp:revision>
  <dc:subject/>
  <dc:title>Native Peoples</dc:title>
</cp:coreProperties>
</file>