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D66B33-7DBE-4195-8E8A-2158576CC1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AC3706-E562-4474-92A4-FB6029BD84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40DDEB-21B1-4487-A2C1-98F669D84D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26BCE7-2DC2-4E50-BA30-06BFB4A45F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BC76BC-5A0C-40D7-A194-A25BA57C18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64B155-5768-4158-9753-1935FDCA68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F31D38-6C34-4FE9-8901-4AEDA40C74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CB52D9C-CD58-4604-9A68-74C040AE3F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50822E99-3670-4E48-BE69-E0189C5C61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C0DD5A1-FA19-49B0-B74F-2230E3859D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013843C-0087-4B80-8885-FABC738E51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495AB-B22C-448F-86D6-4122BBB70C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D579A85-372B-488D-8003-F69357442AB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1FD3CA8-67F6-45C4-907F-DD827D6B7B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45D6C3B-0020-4609-BD58-9DA3457701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1015756-B375-4FA2-BF11-173BB50DD7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5026360-C2CD-413C-AFA4-9ECEF4885F3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833C8E4-A875-4411-9363-132C1F3F2C7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B3053CC-4394-4933-99A8-F4C9EBB44D9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60F3FD0-FF65-4E00-BC40-6189F2BB774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8B8582D-05E2-4A8F-A489-A5873102DED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CB0DC932-98C0-4E0B-B0E0-B540FC9298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AD9BB-0471-4280-81FF-C4E3A88FEEF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98BFC7D-D6B6-4E05-99EB-975F3F789CE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B1CC1172-06B0-4F69-AC49-CDE9C03EC8C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76B52CC-D8AB-4333-83D5-34D498FA28A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2A1B116-C700-4E4D-AF14-81A5BFFF96F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2332C7B-30EA-447D-BA9A-EEFFEC3ACE0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7264A939-907C-43B3-BED2-06B3DA21843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92732FAE-0F83-4744-AFB0-FC21FE7EB34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DA144F-F954-4666-817B-63ED814609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8E2E5F-415A-4088-A455-D601EB28AC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2095E-23DA-41E7-A74C-AA9810943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1FC1BE-32CC-4D4F-8B40-F97B3045714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1FBCB-020C-4FB7-AB6A-51A2936AF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60E474-9EAD-4CC7-A3A8-93811E4D5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DDFC9-EA91-4324-BA83-A1C1CA5E3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36431-99D8-44CE-BBFC-E892BC064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71FA4-BB9F-4727-B7CF-89DFFC2730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42F5C-16D9-4E19-ACA2-92B45874D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FB0D7-162D-48B0-B5EB-0D1FF841B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86396C-4FAF-4D1E-BBC9-6C712F59B2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ABEC3B-317E-4881-8466-E39C376ABA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E51C5B-49C6-4D51-8F9F-BB785EB4E5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A926AF5-0DA7-484A-8F3D-7000662D69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7FB622-B459-470C-A8A4-01844999C6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B14A35-9B31-4A95-A07D-98BB65E7C2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32B6C4-6E31-4167-803F-3F520F31A3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1"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121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3216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522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sldNum" idx="1"/>
          </p:nvPr>
        </p:nvSpPr>
        <p:spPr>
          <a:xfrm>
            <a:off x="77306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B3F76-4435-43E7-A097-0920CEA6BCEA}"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sldNum" idx="2"/>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F473F-92C5-46BD-9087-B15BF56B2FF4}"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sldNum" idx="3"/>
          </p:nvPr>
        </p:nvSpPr>
        <p:spPr>
          <a:xfrm>
            <a:off x="77306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84003-9DBB-4D62-BC08-2AC46F14060D}"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
        <p:nvSpPr>
          <p:cNvPr id="79" name="PlaceHolder 2"/>
          <p:cNvSpPr>
            <a:spLocks noGrp="1"/>
          </p:cNvSpPr>
          <p:nvPr>
            <p:ph type="title"/>
          </p:nvPr>
        </p:nvSpPr>
        <p:spPr>
          <a:xfrm>
            <a:off x="457200" y="15840"/>
            <a:ext cx="8385120" cy="18892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Click to edit the title text format</a:t>
            </a:r>
            <a:endParaRPr b="0" lang="en-US" sz="4400" spc="-1" strike="noStrike">
              <a:solidFill>
                <a:srgbClr val="ffffb7"/>
              </a:solidFill>
              <a:latin typeface="Arial Black"/>
            </a:endParaRPr>
          </a:p>
        </p:txBody>
      </p:sp>
      <p:sp>
        <p:nvSpPr>
          <p:cNvPr id="80" name="PlaceHolder 3"/>
          <p:cNvSpPr>
            <a:spLocks noGrp="1"/>
          </p:cNvSpPr>
          <p:nvPr>
            <p:ph type="body"/>
          </p:nvPr>
        </p:nvSpPr>
        <p:spPr>
          <a:xfrm>
            <a:off x="837720" y="1905120"/>
            <a:ext cx="8007480" cy="4952880"/>
          </a:xfrm>
          <a:prstGeom prst="rect">
            <a:avLst/>
          </a:prstGeom>
          <a:noFill/>
          <a:ln w="0">
            <a:noFill/>
          </a:ln>
        </p:spPr>
        <p:txBody>
          <a:bodyPr lIns="50760" rIns="9000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188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84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904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4624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462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462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ffffff"/>
              </a:solidFill>
              <a:latin typeface="Arial"/>
            </a:endParaRPr>
          </a:p>
        </p:txBody>
      </p:sp>
      <p:sp>
        <p:nvSpPr>
          <p:cNvPr id="12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ffffff"/>
              </a:solidFill>
              <a:latin typeface="Arial"/>
            </a:endParaRPr>
          </a:p>
        </p:txBody>
      </p:sp>
      <p:sp>
        <p:nvSpPr>
          <p:cNvPr id="12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28A85-2E2A-4B17-8F9E-A616B1A4A071}"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58" name="Group 1"/>
          <p:cNvGrpSpPr/>
          <p:nvPr/>
        </p:nvGrpSpPr>
        <p:grpSpPr>
          <a:xfrm>
            <a:off x="318960" y="1752480"/>
            <a:ext cx="8825040" cy="5129280"/>
            <a:chOff x="318960" y="1752480"/>
            <a:chExt cx="8825040" cy="5129280"/>
          </a:xfrm>
        </p:grpSpPr>
        <p:sp>
          <p:nvSpPr>
            <p:cNvPr id="159" name="AutoShape 2"/>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0" name="AutoShape 3"/>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1" name="AutoShape 4"/>
            <p:cNvSpPr/>
            <p:nvPr/>
          </p:nvSpPr>
          <p:spPr>
            <a:xfrm>
              <a:off x="318960" y="3773520"/>
              <a:ext cx="5484960" cy="4572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2" name="AutoShape 5"/>
            <p:cNvSpPr/>
            <p:nvPr/>
          </p:nvSpPr>
          <p:spPr>
            <a:xfrm>
              <a:off x="838080" y="1752480"/>
              <a:ext cx="77691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3" name="AutoShape 6"/>
            <p:cNvSpPr/>
            <p:nvPr/>
          </p:nvSpPr>
          <p:spPr>
            <a:xfrm>
              <a:off x="318960" y="3773520"/>
              <a:ext cx="4752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4" name="AutoShape 7"/>
            <p:cNvSpPr/>
            <p:nvPr/>
          </p:nvSpPr>
          <p:spPr>
            <a:xfrm>
              <a:off x="838080" y="1752480"/>
              <a:ext cx="46080" cy="511956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65" name="Text Box 8"/>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F4B56-0E2A-4FEE-AF4B-B14BF49B9591}"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
        <p:nvSpPr>
          <p:cNvPr id="166" name="PlaceHolder 1"/>
          <p:cNvSpPr>
            <a:spLocks noGrp="1"/>
          </p:cNvSpPr>
          <p:nvPr>
            <p:ph type="title"/>
          </p:nvPr>
        </p:nvSpPr>
        <p:spPr>
          <a:xfrm>
            <a:off x="990720" y="1904760"/>
            <a:ext cx="7772400" cy="1981080"/>
          </a:xfrm>
          <a:prstGeom prst="rect">
            <a:avLst/>
          </a:prstGeom>
          <a:noFill/>
          <a:ln w="0">
            <a:noFill/>
          </a:ln>
        </p:spPr>
        <p:txBody>
          <a:bodyPr lIns="50760" rIns="132120" tIns="50760" bIns="50760" anchor="t">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Native Peoples</a:t>
            </a:r>
            <a:endParaRPr b="0" lang="en-US" sz="5400" spc="-1" strike="noStrike">
              <a:solidFill>
                <a:srgbClr val="ffffb7"/>
              </a:solidFill>
              <a:latin typeface="Arial Black"/>
            </a:endParaRPr>
          </a:p>
        </p:txBody>
      </p:sp>
      <p:sp>
        <p:nvSpPr>
          <p:cNvPr id="167" name="PlaceHolder 2"/>
          <p:cNvSpPr>
            <a:spLocks noGrp="1"/>
          </p:cNvSpPr>
          <p:nvPr>
            <p:ph/>
          </p:nvPr>
        </p:nvSpPr>
        <p:spPr>
          <a:xfrm>
            <a:off x="1600200" y="3885840"/>
            <a:ext cx="6781680" cy="2971800"/>
          </a:xfrm>
          <a:prstGeom prst="rect">
            <a:avLst/>
          </a:prstGeom>
          <a:noFill/>
          <a:ln w="0">
            <a:noFill/>
          </a:ln>
        </p:spPr>
        <p:txBody>
          <a:bodyPr lIns="50760" rIns="13212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as Osio, Tri Nguyen, Alex LeMaire</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169"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spcBef>
                <a:spcPts val="700"/>
              </a:spcBef>
              <a:buClr>
                <a:srgbClr val="ffff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We are</a:t>
            </a:r>
            <a:r>
              <a:rPr b="0" lang="en-US" sz="3200" spc="-1" strike="noStrike">
                <a:solidFill>
                  <a:srgbClr val="000000"/>
                </a:solidFill>
                <a:latin typeface="Arial"/>
              </a:rPr>
              <a:t> </a:t>
            </a:r>
            <a:r>
              <a:rPr b="0" lang="en-US" sz="3200" spc="-1" strike="noStrike">
                <a:solidFill>
                  <a:srgbClr val="ff0000"/>
                </a:solidFill>
                <a:latin typeface="Arial Bold"/>
                <a:ea typeface="Arial Bold"/>
              </a:rPr>
              <a:t>against</a:t>
            </a:r>
            <a:r>
              <a:rPr b="0" lang="en-US" sz="3200" spc="-1" strike="noStrike">
                <a:solidFill>
                  <a:srgbClr val="000000"/>
                </a:solidFill>
                <a:latin typeface="Arial"/>
              </a:rPr>
              <a:t> </a:t>
            </a:r>
            <a:r>
              <a:rPr b="0" lang="en-US" sz="3200" spc="-1" strike="noStrike">
                <a:solidFill>
                  <a:srgbClr val="ffffb7"/>
                </a:solidFill>
                <a:latin typeface="Arial"/>
              </a:rPr>
              <a:t>rainforest destruc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70" name="Group 1"/>
          <p:cNvGrpSpPr/>
          <p:nvPr/>
        </p:nvGrpSpPr>
        <p:grpSpPr>
          <a:xfrm>
            <a:off x="318960" y="1828800"/>
            <a:ext cx="8825040" cy="5029200"/>
            <a:chOff x="318960" y="1828800"/>
            <a:chExt cx="8825040" cy="5029200"/>
          </a:xfrm>
        </p:grpSpPr>
        <p:sp>
          <p:nvSpPr>
            <p:cNvPr id="171"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2"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3"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4"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5"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6"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7"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8"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79" name="Text Box 10"/>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BB221-6237-4685-9F9C-0B9B7EF99A2E}"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
        <p:nvSpPr>
          <p:cNvPr id="180"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Entitlement</a:t>
            </a:r>
            <a:endParaRPr b="0" lang="en-US" sz="4400" spc="-1" strike="noStrike">
              <a:solidFill>
                <a:srgbClr val="ffffb7"/>
              </a:solidFill>
              <a:latin typeface="Arial Black"/>
            </a:endParaRPr>
          </a:p>
        </p:txBody>
      </p:sp>
      <p:sp>
        <p:nvSpPr>
          <p:cNvPr id="181"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land has been handed down unto us by our forefathers long before the corporations and government attempted to corrupt it of its natural resources and beauty. </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there is anybody that should have control over the fate of this land, it is us, not government plans like Avanca Brasil.</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82" name="Group 1"/>
          <p:cNvGrpSpPr/>
          <p:nvPr/>
        </p:nvGrpSpPr>
        <p:grpSpPr>
          <a:xfrm>
            <a:off x="318960" y="1828800"/>
            <a:ext cx="8825040" cy="5029200"/>
            <a:chOff x="318960" y="1828800"/>
            <a:chExt cx="8825040" cy="5029200"/>
          </a:xfrm>
        </p:grpSpPr>
        <p:sp>
          <p:nvSpPr>
            <p:cNvPr id="183"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4"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5"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6"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7"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8"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9"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0"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91" name="Text Box 10"/>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52E3E-994B-410B-9E4C-1B6DE80CB6ED}"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
        <p:nvSpPr>
          <p:cNvPr id="192"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Natural Beauty</a:t>
            </a:r>
            <a:endParaRPr b="0" lang="en-US" sz="4400" spc="-1" strike="noStrike">
              <a:solidFill>
                <a:srgbClr val="ffffb7"/>
              </a:solidFill>
              <a:latin typeface="Arial Black"/>
            </a:endParaRPr>
          </a:p>
        </p:txBody>
      </p:sp>
      <p:sp>
        <p:nvSpPr>
          <p:cNvPr id="193"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      </a:t>
            </a:r>
            <a:r>
              <a:rPr b="0" lang="en-US" sz="1800" spc="-1" strike="noStrike">
                <a:solidFill>
                  <a:srgbClr val="ffffff"/>
                </a:solidFill>
                <a:latin typeface="Arial Bold"/>
                <a:ea typeface="Arial Bold"/>
              </a:rPr>
              <a:t>292 square miles of rainforest was destroyed in August 2008. That's a 228 percent increase over August 2007. </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    </a:t>
            </a:r>
            <a:r>
              <a:rPr b="0" lang="en-US" sz="1800" spc="-1" strike="noStrike">
                <a:solidFill>
                  <a:srgbClr val="ffffff"/>
                </a:solidFill>
                <a:latin typeface="Arial Bold"/>
                <a:ea typeface="Arial Bold"/>
              </a:rPr>
              <a:t>Slash and Burn farming has caused extensive environmental damage. This causes soil to lose its fertility and weeds to invade the area, which severely harms the natural beauty of the land.</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26,000 sq km, or one fifth of the entire Amazon has already been cleared. If this alarming rate of deforestation increases, the rainforest will be no more.</a:t>
            </a:r>
            <a:endParaRPr b="0" lang="en-US" sz="1800" spc="-1" strike="noStrike">
              <a:solidFill>
                <a:srgbClr val="ffffff"/>
              </a:solidFill>
              <a:latin typeface="Arial"/>
            </a:endParaRPr>
          </a:p>
          <a:p>
            <a:pPr marL="382680" indent="-343080">
              <a:lnSpc>
                <a:spcPct val="10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Arial Bold"/>
              </a:rPr>
              <a:t>The rainforest is a lush, species-rich paradise with more than 75,000 types of trees and 150,000 species of higher plants</a:t>
            </a:r>
            <a:r>
              <a:rPr b="0" lang="en-US" sz="1800" spc="-1" strike="noStrike">
                <a:solidFill>
                  <a:srgbClr val="ffffff"/>
                </a:solidFill>
                <a:latin typeface="Arial"/>
              </a:rPr>
              <a:t>. </a:t>
            </a:r>
            <a:r>
              <a:rPr b="0" lang="en-US" sz="1800" spc="-1" strike="noStrike">
                <a:solidFill>
                  <a:srgbClr val="ffffff"/>
                </a:solidFill>
                <a:latin typeface="Arial Bold"/>
                <a:ea typeface="Arial Bold"/>
              </a:rPr>
              <a:t>One in ten known species in the world live in the Amazon Rainforest. If we keep allowing people to destroy this wonderful forest, it will never be as beautiful of a place as it is right now.</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94" name="Group 1"/>
          <p:cNvGrpSpPr/>
          <p:nvPr/>
        </p:nvGrpSpPr>
        <p:grpSpPr>
          <a:xfrm>
            <a:off x="318960" y="1828800"/>
            <a:ext cx="8825040" cy="5029200"/>
            <a:chOff x="318960" y="1828800"/>
            <a:chExt cx="8825040" cy="5029200"/>
          </a:xfrm>
        </p:grpSpPr>
        <p:sp>
          <p:nvSpPr>
            <p:cNvPr id="195"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6"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7"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8"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9"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00"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01"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02"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03" name="Text Box 10"/>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95D61-B649-45D9-BD06-AE90AE858660}"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
        <p:nvSpPr>
          <p:cNvPr id="204"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Natural Habitats</a:t>
            </a:r>
            <a:endParaRPr b="0" lang="en-US" sz="4400" spc="-1" strike="noStrike">
              <a:solidFill>
                <a:srgbClr val="ffffb7"/>
              </a:solidFill>
              <a:latin typeface="Arial Black"/>
            </a:endParaRPr>
          </a:p>
        </p:txBody>
      </p:sp>
      <p:sp>
        <p:nvSpPr>
          <p:cNvPr id="205"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fontScale="99000"/>
          </a:bodyPr>
          <a:p>
            <a:pPr marL="378720" indent="-3394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ainforest is the most species rich biome. It has 2.5 million insect species, 40,000 plants and 2,000 birds and mammals. The natives depend on these animals for food, clothing and other purposes. With the destruction of the rainforest we have lost many species that may never see the Earth again, we must preserve our environment and the life on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Slide Number Placeholder 3"/>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8F354-0AB0-475D-B801-B0C793C144C4}"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grpSp>
        <p:nvGrpSpPr>
          <p:cNvPr id="207" name="Group 1"/>
          <p:cNvGrpSpPr/>
          <p:nvPr/>
        </p:nvGrpSpPr>
        <p:grpSpPr>
          <a:xfrm>
            <a:off x="318960" y="1828800"/>
            <a:ext cx="8825040" cy="5029200"/>
            <a:chOff x="318960" y="1828800"/>
            <a:chExt cx="8825040" cy="5029200"/>
          </a:xfrm>
        </p:grpSpPr>
        <p:sp>
          <p:nvSpPr>
            <p:cNvPr id="208"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09"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10"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11"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12"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13"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14"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215"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16"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Natural Habitats</a:t>
            </a:r>
            <a:endParaRPr b="0" lang="en-US" sz="4400" spc="-1" strike="noStrike">
              <a:solidFill>
                <a:srgbClr val="ffffb7"/>
              </a:solidFill>
              <a:latin typeface="Arial Black"/>
            </a:endParaRPr>
          </a:p>
        </p:txBody>
      </p:sp>
      <p:sp>
        <p:nvSpPr>
          <p:cNvPr id="217"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00,000 million insect species</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0,000 plant species</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000 fish species</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294 bird species</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27 mammal species</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28 amphibian species</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378 reptile species</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many more to be discovered</a:t>
            </a:r>
            <a:endParaRPr b="0" lang="en-US" sz="3200" spc="-1" strike="noStrike">
              <a:solidFill>
                <a:srgbClr val="ffffff"/>
              </a:solidFill>
              <a:latin typeface="Arial"/>
            </a:endParaRPr>
          </a:p>
        </p:txBody>
      </p:sp>
      <p:sp>
        <p:nvSpPr>
          <p:cNvPr id="218" name="Text Box 12"/>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5F415-A884-440D-9695-4650F5EE033E}"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Slide Number Placeholder 3"/>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2E548-0CE8-4FAA-9414-F99597ECFA89}"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sp>
        <p:nvSpPr>
          <p:cNvPr id="220" name="Text Box 10"/>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00328-0B88-4860-B762-80F291B2BE96}"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Slide Number Placeholder 3"/>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F28FA-FA92-4CB1-BCB4-A0C17E2EDBE8}"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sp>
        <p:nvSpPr>
          <p:cNvPr id="222" name="Text Box 10"/>
          <p:cNvSpPr/>
          <p:nvPr/>
        </p:nvSpPr>
        <p:spPr>
          <a:xfrm>
            <a:off x="7731000" y="6245280"/>
            <a:ext cx="312840" cy="30492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0D909-BB0F-44F0-8F32-95663FB47CA2}"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calUser</dc:creator>
  <dc:description/>
  <cp:keywords/>
  <dc:language>en-US</dc:language>
  <cp:lastModifiedBy>cfisd</cp:lastModifiedBy>
  <dcterms:modified xsi:type="dcterms:W3CDTF">2009-01-26T13:18:51Z</dcterms:modified>
  <cp:revision>2</cp:revision>
  <dc:subject/>
  <dc:title>Native Peoples</dc:title>
</cp:coreProperties>
</file>