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3D34E-92EF-4B15-A45D-4C5B1D24A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F82FB-3336-4B19-BA1D-29CE4815AC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EBC987-34FC-4FD5-AEFD-56C8C02A6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898F1-174F-4E56-8E48-D976EB4546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623B66-D588-488E-A501-6A2F2E920F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4F0F41-8417-4115-B820-A5DCF33BD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FE278-20CB-4786-BFF6-32CFD0441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C67025-0CF5-424D-AAE3-78D73F615D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D79B650-3393-490C-842A-2F70285C7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0F2624E-EFE3-4688-A2D8-61ADB803BF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8117277-DFBE-40D6-A160-7DD19595A4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F33E-95EE-4B61-9625-9B6B4D798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2DDECB-E1A8-418C-873F-A50C0EAF62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0237B5-CB28-44B6-A2E8-7F0DA99E33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513ADD-2DF3-4DA4-AAD1-6407DCB109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6C33343-053B-4BCC-B31A-A64DD7636F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C22D1C4-E38A-4458-8080-2361C46B7C2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4797B6-D8E4-491F-96C8-938EA7AC8D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DF15D8-3A2F-4B38-8D42-C0A26596B9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8E7C28-662B-492D-A68F-A98D10E2F2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11D7D0A-CADC-4AB2-9394-7EDDAFCA85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1C73301-69E2-41D5-A009-DB175BEAE4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1153-CB11-423D-ADDD-2E2FAED6E1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FBE4535-7BBE-4968-A38D-AE130A69A4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020FE03-72FE-4854-B681-51D55ABCE3B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58588AD-FBA6-4356-AE43-B730B17379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15C7545-BEFA-40B3-B9F4-15028688A2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C05E199-545A-427E-804A-AB9C93EC75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E62C03B-17A1-499E-93FA-C6FE129108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A0546D4-C25B-4E1F-8B37-6B74F43E73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0B1B5-BC06-49E4-B48F-97CEA1F44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139C5-45A8-41A3-BED2-FF8DF415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60EA8-7424-4B43-A7BF-ADDA316D5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C8BD2-47F5-4CDF-BD15-F8901E6B3E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5C355-668C-4D94-8E3C-17873100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6ACEC-3B2A-420A-B8D4-18AADA253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6B4F5-9C88-4D2B-876E-1F058EE63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71338-16DF-4F96-9942-B53CE8EBD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AE43-5B88-406F-AE7E-7E6BB308B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8F847-3418-4D7C-BA31-D3C92076F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D657A-6ADF-444E-8502-513779DED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A162E-1B7C-407A-B285-0D91778FA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3A287-CC9B-4E4A-BBE0-BB9003C00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09A72-503B-42E7-9FD8-152BAE382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33BF9C-637C-4808-80BC-3DBBBA2706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48F79-94DF-483A-B5F0-D2F19B508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3549-81D0-46D2-BCD6-1138668670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06A87-815D-4814-8AFA-6E23B01A51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1B93-2DF7-4F54-9B78-E318544A2D0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CAB-45BE-4436-9BF4-C07E1199A97E}"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A329-E276-4996-90CF-36ECF90F409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1C68-87A5-4666-9A51-27E6D66BD73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Text Box 8"/>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E8B5-814C-48A8-9E62-05B404E02BF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66"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7"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Group 1"/>
          <p:cNvGrpSpPr/>
          <p:nvPr/>
        </p:nvGrpSpPr>
        <p:grpSpPr>
          <a:xfrm>
            <a:off x="318960" y="1828800"/>
            <a:ext cx="8825040" cy="5029200"/>
            <a:chOff x="318960" y="1828800"/>
            <a:chExt cx="8825040" cy="5029200"/>
          </a:xfrm>
        </p:grpSpPr>
        <p:sp>
          <p:nvSpPr>
            <p:cNvPr id="17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9"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2433-2044-47A6-9FA6-E5CA7A6BD88E}"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8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81"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2" name="Group 1"/>
          <p:cNvGrpSpPr/>
          <p:nvPr/>
        </p:nvGrpSpPr>
        <p:grpSpPr>
          <a:xfrm>
            <a:off x="318960" y="1828800"/>
            <a:ext cx="8825040" cy="5029200"/>
            <a:chOff x="318960" y="1828800"/>
            <a:chExt cx="8825040" cy="5029200"/>
          </a:xfrm>
        </p:grpSpPr>
        <p:sp>
          <p:nvSpPr>
            <p:cNvPr id="183"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9"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0"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1"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788E-F19E-4A30-ADF4-13F02A39E916}"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92"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93"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4" name="Group 1"/>
          <p:cNvGrpSpPr/>
          <p:nvPr/>
        </p:nvGrpSpPr>
        <p:grpSpPr>
          <a:xfrm>
            <a:off x="318960" y="1828800"/>
            <a:ext cx="8825040" cy="5029200"/>
            <a:chOff x="318960" y="1828800"/>
            <a:chExt cx="8825040" cy="5029200"/>
          </a:xfrm>
        </p:grpSpPr>
        <p:sp>
          <p:nvSpPr>
            <p:cNvPr id="195"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0"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1"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2"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3"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5AAE-43F2-488C-8023-385DCF0AA7C3}"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20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fontScale="99000"/>
          </a:bodyPr>
          <a:p>
            <a:pPr marL="37872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EC95-3EEC-438A-BFBC-45ECE8FC6CF2}"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grpSp>
        <p:nvGrpSpPr>
          <p:cNvPr id="207" name="Group 1"/>
          <p:cNvGrpSpPr/>
          <p:nvPr/>
        </p:nvGrpSpPr>
        <p:grpSpPr>
          <a:xfrm>
            <a:off x="318960" y="1828800"/>
            <a:ext cx="8825040" cy="5029200"/>
            <a:chOff x="318960" y="1828800"/>
            <a:chExt cx="8825040" cy="5029200"/>
          </a:xfrm>
        </p:grpSpPr>
        <p:sp>
          <p:nvSpPr>
            <p:cNvPr id="208"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9"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0"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1"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2"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3"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4"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5"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6"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17"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218" name="Text Box 12"/>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3B5E-A7C8-48A3-ABD4-FA91B88552DC}"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6B4F-6181-457F-83DA-DAE46D7C75F8}"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0"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AD54-ED38-4046-A3C6-33220E9048F7}"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0390-3DA4-451F-86FC-B50247024532}"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2"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3896-49B5-4944-9643-321C5E61EF3A}"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6T13:18:51Z</dcterms:modified>
  <cp:revision>2</cp:revision>
  <dc:subject/>
  <dc:title>Native Peoples</dc:title>
</cp:coreProperties>
</file>