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F5CC1-DD06-4019-A5A4-FB9686927C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E245E-C12B-4A87-B2F7-34BBD01743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265D0C-9041-4D94-8B27-402C331B36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F4E8AB-FB9F-4649-ADD1-A9CAF5E790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E60688-3BC1-494D-A779-3455A5EC77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76BEEE-60C1-4A7E-95DA-01943BF637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F659E0-7A69-451C-804E-9D9B22C5AA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5A5B287-A3C2-4DE9-8B6B-705635731F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26C8978-6856-47FA-8A1D-4376F08B57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F418269-6D57-4C7D-9953-28C08E222B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12DDA6E-9202-4B05-8586-8637ABC768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E1B10-B72B-40E0-ACE7-B8852D37B5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3DB9ED-9B8E-453E-BC9B-CA8C836BE4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9623952-D769-4A82-83E1-55C18B97AA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2C2366C-DECA-4016-804F-758AA2D9DF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F3C26E6-E2E9-455E-A43B-3B4A29B50B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5830519-957D-40CF-9D7E-182EF8C3072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6433BD-7FDB-4751-869B-F171D24003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FF28B4F-297A-43A7-8A02-1F03B8E15D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368AB1C-13B3-40E5-ADE6-898F017B699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131D6DF-8814-45B0-903D-BCCA9D6915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5B24478-C548-4D1E-A925-9A7993F2BC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E1ADB-3A40-42F9-AB17-B024DBCD50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78044FD-1531-4476-BCC2-05447747C6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649E16D-3009-4601-81CA-2FAB97BF743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6342347-EE92-4060-B25D-B4EA8AC430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8084C32-5AB0-44A7-94D4-69BEA00A03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C13365F-4ACF-4F37-9385-E8AE9048A9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8F1D3AB-8F91-4211-B110-8E6CEEDCFB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5879428-7256-48B5-BA36-6FF78C26B77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840EE-4B93-4F92-B889-78393AF4E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8E021-307F-449D-89A3-929A88FC2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5882E-D956-4A8F-8E7C-5F33B0476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32458-C0C1-4E80-BFED-59BC9E3C806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30A62-3CAE-4D0E-AA5E-A157225BB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EDE00-CEF2-41F0-B3A6-3697DA486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59993-528F-4C50-A7C8-7B245DC32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EFD5B-3296-45E6-AFE7-34AC58151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C3C3B-0632-4E33-A551-B68DAAA1D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DC35A-E53E-40A6-B039-1A43FBA0F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5E29E-256A-4A55-84F0-AA51F6DE1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25754-682C-49E9-80C4-33BB681F5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52AE6-D42B-40E0-8FF3-3295066AD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940402-E280-488F-99E5-15B694FB57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4CF9FB2-BCFE-4320-A86E-2ECA83BEAF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C37BF-0527-4146-A3FD-E4BB0AA27B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80D77-557C-4E05-B656-A0276D1B35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8D84C-AEA8-4FA3-88AA-DD67A6E331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BC8C-EE87-4F18-B085-EA7A30C65C46}"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37C2-9535-49FE-B09D-C60D7134A7D6}"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8303-5559-499E-9405-728C6FBB6D7C}"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5397-B1BE-4DB0-AB50-56DE39CB1A2C}"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Text Box 8"/>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B8DF-1614-46D3-BDBC-029A530F85D8}"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66"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7" name="PlaceHolder 2"/>
          <p:cNvSpPr>
            <a:spLocks noGrp="1"/>
          </p:cNvSpPr>
          <p:nvPr>
            <p:ph/>
          </p:nvPr>
        </p:nvSpPr>
        <p:spPr>
          <a:xfrm>
            <a:off x="1600200" y="3885840"/>
            <a:ext cx="6781680" cy="297180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0" name="Group 1"/>
          <p:cNvGrpSpPr/>
          <p:nvPr/>
        </p:nvGrpSpPr>
        <p:grpSpPr>
          <a:xfrm>
            <a:off x="318960" y="1828800"/>
            <a:ext cx="8825040" cy="5029200"/>
            <a:chOff x="318960" y="1828800"/>
            <a:chExt cx="8825040" cy="5029200"/>
          </a:xfrm>
        </p:grpSpPr>
        <p:sp>
          <p:nvSpPr>
            <p:cNvPr id="17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9"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459C-00C8-4A16-975D-795EAAFE4E85}"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8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Entitlement</a:t>
            </a:r>
            <a:endParaRPr b="0" lang="en-US" sz="4400" spc="-1" strike="noStrike">
              <a:solidFill>
                <a:srgbClr val="ffffb7"/>
              </a:solidFill>
              <a:latin typeface="Arial Black"/>
            </a:endParaRPr>
          </a:p>
        </p:txBody>
      </p:sp>
      <p:sp>
        <p:nvSpPr>
          <p:cNvPr id="181"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2" name="Group 1"/>
          <p:cNvGrpSpPr/>
          <p:nvPr/>
        </p:nvGrpSpPr>
        <p:grpSpPr>
          <a:xfrm>
            <a:off x="318960" y="1828800"/>
            <a:ext cx="8825040" cy="5029200"/>
            <a:chOff x="318960" y="1828800"/>
            <a:chExt cx="8825040" cy="5029200"/>
          </a:xfrm>
        </p:grpSpPr>
        <p:sp>
          <p:nvSpPr>
            <p:cNvPr id="183"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9"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0"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1"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A6D8-B1C6-48D3-B536-04D5C7A2BF6E}"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92"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Beauty</a:t>
            </a:r>
            <a:endParaRPr b="0" lang="en-US" sz="4400" spc="-1" strike="noStrike">
              <a:solidFill>
                <a:srgbClr val="ffffb7"/>
              </a:solidFill>
              <a:latin typeface="Arial Black"/>
            </a:endParaRPr>
          </a:p>
        </p:txBody>
      </p:sp>
      <p:sp>
        <p:nvSpPr>
          <p:cNvPr id="193"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292 square miles of rainforest was destroyed in August 2008. That's a 228 percent increase over August 2007.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The rainforest is a lush, species-rich paradise with more than 75,000 types of trees and 150,000 species of higher plants</a:t>
            </a:r>
            <a:r>
              <a:rPr b="0" lang="en-US" sz="1800" spc="-1" strike="noStrike">
                <a:solidFill>
                  <a:srgbClr val="ffffff"/>
                </a:solidFill>
                <a:latin typeface="Arial"/>
              </a:rPr>
              <a:t>. </a:t>
            </a:r>
            <a:r>
              <a:rPr b="0" lang="en-US" sz="1800" spc="-1" strike="noStrike">
                <a:solidFill>
                  <a:srgbClr val="ffffff"/>
                </a:solidFill>
                <a:latin typeface="Arial Bold"/>
                <a:ea typeface="Arial Bold"/>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4" name="Group 1"/>
          <p:cNvGrpSpPr/>
          <p:nvPr/>
        </p:nvGrpSpPr>
        <p:grpSpPr>
          <a:xfrm>
            <a:off x="318960" y="1828800"/>
            <a:ext cx="8825040" cy="5029200"/>
            <a:chOff x="318960" y="1828800"/>
            <a:chExt cx="8825040" cy="5029200"/>
          </a:xfrm>
        </p:grpSpPr>
        <p:sp>
          <p:nvSpPr>
            <p:cNvPr id="195"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0"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1"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2"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3"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E632-4307-446D-9A39-32E60E5A83F8}"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204"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205"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fontScale="99000"/>
          </a:bodyPr>
          <a:p>
            <a:pPr marL="37872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646C-2F28-4BC1-A500-EC1F0A698725}"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grpSp>
        <p:nvGrpSpPr>
          <p:cNvPr id="207" name="Group 1"/>
          <p:cNvGrpSpPr/>
          <p:nvPr/>
        </p:nvGrpSpPr>
        <p:grpSpPr>
          <a:xfrm>
            <a:off x="318960" y="1828800"/>
            <a:ext cx="8825040" cy="5029200"/>
            <a:chOff x="318960" y="1828800"/>
            <a:chExt cx="8825040" cy="5029200"/>
          </a:xfrm>
        </p:grpSpPr>
        <p:sp>
          <p:nvSpPr>
            <p:cNvPr id="208"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9"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0"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1"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2"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3"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4"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5"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6"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217"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0,000 million insect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 plant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0 fish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94 bird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7 mammal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8 amphibian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8 reptile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ore to be discovered</a:t>
            </a:r>
            <a:endParaRPr b="0" lang="en-US" sz="3200" spc="-1" strike="noStrike">
              <a:solidFill>
                <a:srgbClr val="ffffff"/>
              </a:solidFill>
              <a:latin typeface="Arial"/>
            </a:endParaRPr>
          </a:p>
        </p:txBody>
      </p:sp>
      <p:sp>
        <p:nvSpPr>
          <p:cNvPr id="218" name="Text Box 12"/>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C1E3-5061-4070-8A01-CCB05FEED169}"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7F22-872C-4F25-82A3-85E1AEC7299A}"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20"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D463-EF24-4BB7-A8DC-BC0E7B7D2136}"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45FC-2750-4440-B297-993A3F733EF5}"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22"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2577-3889-44C1-A724-8077EA2E08A4}"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cfisd</cp:lastModifiedBy>
  <dcterms:modified xsi:type="dcterms:W3CDTF">2009-01-26T13:18:51Z</dcterms:modified>
  <cp:revision>2</cp:revision>
  <dc:subject/>
  <dc:title>Native Peoples</dc:title>
</cp:coreProperties>
</file>