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ADF453-0DC7-4D9A-825A-29ADB22098E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FD67B-9CEF-4716-B28E-C4EEA7BBB4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11C91-E965-4AF4-AECF-860D9885A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2E48A6-930D-4062-94B6-936DAAC5FA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72884A-B038-487B-B057-85AFB56CBD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E2B9F3-7C5D-44A9-BB65-324FA68800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5C43A2-0C09-41C9-BBCB-4745C155E5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F18210A-07D3-4555-AEF3-85AD9D64FA0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D054ADE-5274-4FF3-B2F4-F8E1D1D765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864FB01-0B7F-4FAE-A218-8790CB811C2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793786D-68CF-41A2-869A-017736E74A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FAB6A-63FA-4424-BE69-EF05C30835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C4417EA-FD92-42CF-B033-C4889AA9D8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B1FE942-72DB-4DC6-BDF6-DEBE9CAE62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B0BA0F7-FCD9-45C4-A58C-1889E178B2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ADF714A-945C-460F-9B0E-41C6DE2D88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B34F8F6-5670-4A54-B415-737F67F5E66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B3A2FD3-3402-456F-A223-56192B9308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DCF8D5A-FAE6-406D-AD40-466E27CF633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EE3DBC5-ABD1-421D-9873-C476C4B805D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E190293F-1857-4C55-A30E-1845C58039F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B5183C4-EDBE-46D0-B4B7-F8883E70E5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13162-E20E-4247-B86A-84472A1B2D1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6167DE1C-957C-4A96-8393-34088F50463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047DFF6-770A-4F64-A1A3-2A3A3B3033B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ECED3D7-A882-4822-A67E-F911001D8BD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13B516C-2146-4D06-8E19-BBFEB905D59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4D4B4CA-5F5A-4606-9BB4-90E6534BCA4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E8BBC23D-C588-460F-9268-0E961A2E629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A969A6A-832B-4869-B2D4-10839CFB919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606BF0-9172-41C9-9319-2214B9FAC2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15E17-4856-463B-9313-23FF0CC3B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0A4367-2F4D-433C-BFF5-6D42A4891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AED0C-051A-4DA9-B75D-E7B7E6528AF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13F28-9E69-4FB6-9A56-E4A0218DF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8BFFD-A604-4CCB-BBDC-18D52B4A1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76766-C94A-43B5-BF32-722394852B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436C7-3223-4F26-BF68-047C62EDF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89CF5-14C4-495F-8E06-CE29D89D89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81B8F-8D4A-4223-BA3A-454D2359F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10CEC8-5EEF-4E30-92C7-25245BFD7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FE3812-F602-467E-B3E2-5B1983E0C9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4DDB59-2277-43BF-936D-E331E3AD3E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C8558A-89A5-42E9-9CDF-A72BFC50F9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F13EE4E-9A70-4EBA-BCC9-3CCFF8892F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D1F5E-F1CF-48B0-8EC3-C96BD16F1F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93A40-64F5-4404-A384-F3DE3E90F5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6A7DD4-7E90-4FF6-81F8-F806C9CFCF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2F07-B431-42F9-AE00-2ACFF3F02748}"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F12C-4EA3-4AB2-9746-3F5B0483998E}"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DBE75-3246-4B40-BA6F-2E8CDF35C068}"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C65BF-A251-476A-85DA-ABAEB6BE0B5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Text Box 8"/>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1E99-96D7-405A-AB54-9F7C616B9711}"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66"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7" name="PlaceHolder 2"/>
          <p:cNvSpPr>
            <a:spLocks noGrp="1"/>
          </p:cNvSpPr>
          <p:nvPr>
            <p:ph/>
          </p:nvPr>
        </p:nvSpPr>
        <p:spPr>
          <a:xfrm>
            <a:off x="1600200" y="3885840"/>
            <a:ext cx="6781680" cy="297180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0" name="Group 1"/>
          <p:cNvGrpSpPr/>
          <p:nvPr/>
        </p:nvGrpSpPr>
        <p:grpSpPr>
          <a:xfrm>
            <a:off x="318960" y="1828800"/>
            <a:ext cx="8825040" cy="5029200"/>
            <a:chOff x="318960" y="1828800"/>
            <a:chExt cx="8825040" cy="5029200"/>
          </a:xfrm>
        </p:grpSpPr>
        <p:sp>
          <p:nvSpPr>
            <p:cNvPr id="17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9"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2B486-B52B-4E4D-A69B-BBD04AABBD75}"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8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Entitlement</a:t>
            </a:r>
            <a:endParaRPr b="0" lang="en-US" sz="4400" spc="-1" strike="noStrike">
              <a:solidFill>
                <a:srgbClr val="ffffb7"/>
              </a:solidFill>
              <a:latin typeface="Arial Black"/>
            </a:endParaRPr>
          </a:p>
        </p:txBody>
      </p:sp>
      <p:sp>
        <p:nvSpPr>
          <p:cNvPr id="181"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2" name="Group 1"/>
          <p:cNvGrpSpPr/>
          <p:nvPr/>
        </p:nvGrpSpPr>
        <p:grpSpPr>
          <a:xfrm>
            <a:off x="318960" y="1828800"/>
            <a:ext cx="8825040" cy="5029200"/>
            <a:chOff x="318960" y="1828800"/>
            <a:chExt cx="8825040" cy="5029200"/>
          </a:xfrm>
        </p:grpSpPr>
        <p:sp>
          <p:nvSpPr>
            <p:cNvPr id="183"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9"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0"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1"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D81FD-1722-4031-9AEA-282C3E1FD1B0}"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92"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Beauty</a:t>
            </a:r>
            <a:endParaRPr b="0" lang="en-US" sz="4400" spc="-1" strike="noStrike">
              <a:solidFill>
                <a:srgbClr val="ffffb7"/>
              </a:solidFill>
              <a:latin typeface="Arial Black"/>
            </a:endParaRPr>
          </a:p>
        </p:txBody>
      </p:sp>
      <p:sp>
        <p:nvSpPr>
          <p:cNvPr id="193"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292 square miles of rainforest was destroyed in August 2008. That's a 228 percent increase over August 2007.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he rainforest is a lush, species-rich paradise with more than 75,000 types of trees and 150,000 species of higher plants</a:t>
            </a:r>
            <a:r>
              <a:rPr b="0" lang="en-US" sz="1800" spc="-1" strike="noStrike">
                <a:solidFill>
                  <a:srgbClr val="ffffff"/>
                </a:solidFill>
                <a:latin typeface="Arial"/>
              </a:rPr>
              <a:t>. </a:t>
            </a:r>
            <a:r>
              <a:rPr b="0" lang="en-US" sz="1800" spc="-1" strike="noStrike">
                <a:solidFill>
                  <a:srgbClr val="ffffff"/>
                </a:solidFill>
                <a:latin typeface="Arial Bold"/>
                <a:ea typeface="Arial Bold"/>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4" name="Group 1"/>
          <p:cNvGrpSpPr/>
          <p:nvPr/>
        </p:nvGrpSpPr>
        <p:grpSpPr>
          <a:xfrm>
            <a:off x="318960" y="1828800"/>
            <a:ext cx="8825040" cy="5029200"/>
            <a:chOff x="318960" y="1828800"/>
            <a:chExt cx="8825040" cy="5029200"/>
          </a:xfrm>
        </p:grpSpPr>
        <p:sp>
          <p:nvSpPr>
            <p:cNvPr id="195"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0"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1"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2"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3"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65B9-8D85-45A4-8B22-00E5956D6674}"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204"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205"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fontScale="99000"/>
          </a:bodyPr>
          <a:p>
            <a:pPr marL="37872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B9B9B-E4F8-4A7D-A64C-FB6445048BD9}"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grpSp>
        <p:nvGrpSpPr>
          <p:cNvPr id="207" name="Group 1"/>
          <p:cNvGrpSpPr/>
          <p:nvPr/>
        </p:nvGrpSpPr>
        <p:grpSpPr>
          <a:xfrm>
            <a:off x="318960" y="1828800"/>
            <a:ext cx="8825040" cy="5029200"/>
            <a:chOff x="318960" y="1828800"/>
            <a:chExt cx="8825040" cy="5029200"/>
          </a:xfrm>
        </p:grpSpPr>
        <p:sp>
          <p:nvSpPr>
            <p:cNvPr id="208"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9"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0"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1"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2"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3"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4"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5"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6"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217"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00 million insect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plant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0 fish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94 bird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mammal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8 amphibian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8 reptile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ore to be discovered</a:t>
            </a:r>
            <a:endParaRPr b="0" lang="en-US" sz="3200" spc="-1" strike="noStrike">
              <a:solidFill>
                <a:srgbClr val="ffffff"/>
              </a:solidFill>
              <a:latin typeface="Arial"/>
            </a:endParaRPr>
          </a:p>
        </p:txBody>
      </p:sp>
      <p:sp>
        <p:nvSpPr>
          <p:cNvPr id="218" name="Text Box 12"/>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47F95-0A7C-449D-8B9D-5DAA99200E1B}"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E1AC-A6E3-4C5D-B706-D627821BF272}"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20"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14A8-41C3-4C1A-A428-EE93A3C40D34}"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4EEFD-EB35-48D1-8183-F0F51BA63080}"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22"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52ECD-D94A-41E0-8772-DBC80BDAA39C}"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cfisd</cp:lastModifiedBy>
  <dcterms:modified xsi:type="dcterms:W3CDTF">2009-01-26T13:18:51Z</dcterms:modified>
  <cp:revision>2</cp:revision>
  <dc:subject/>
  <dc:title>Native Peoples</dc:title>
</cp:coreProperties>
</file>