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C11E5C-1B7C-4ABB-BA2C-1FA5F9EF4E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F4F276-3AE5-4ABC-B67F-136E9F46C1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6813D4-8CF0-4C8E-B7A3-56B5CC40E6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871057-F8B8-45AA-99F5-DE7877266D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8E95DA-128A-46B5-B394-833485943C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228247-4700-43E9-B68D-1F6ED1C9F1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11556E-B0D2-49BB-9C70-6EFA735FED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36C25D4-9F17-40F8-ACB8-39149EEEF5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DE35EE61-E710-4E22-8AAE-F87C1D2C2B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A4C7FCE-DB1A-41EB-B62F-2C3D0A7ACC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9387E9C-9BFE-4539-8032-22D30BF893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52F3A-16D0-46C4-99C3-4D53F7D482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1D876D5-3FAF-4540-ACAC-02ECBAA9E6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C728BCB-B2D0-4898-9329-FE1D91519D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5D8A1BF-82B3-404E-B7B2-76898A674D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7E86A9E-73AF-4CB0-96A3-E617D22E5A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C834F88-6F82-4084-B343-6D94B8CC20A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1A174F3-B78B-4D9E-8CB2-751A9BC5027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9FD714B-C7FA-4DBA-9C0C-DE1C91C52C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D7CEE79-CE8A-40F6-818F-5C10ADA06C3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C4F5D3E-8665-48F2-A73A-E99B39EF2F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C54C62B-5A6E-4371-9EC0-17A546AC67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87A73-8CAE-4027-81A6-6BF6B9B5034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C427F38-FA7A-41B8-A983-BF6A0DB93B7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8AC3B1D-1DDF-4ADD-8B3E-3D93A2491E4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785F122-CAF2-495B-BDF9-1FDAA093971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BDBEA18-D8C5-4D2C-A4EA-3A660EA67A4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43F98A3-8961-4C7E-98A6-4505A456896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50E7670-1949-4CFB-9F65-9296AB63D4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9E1EE89-EA49-40F7-9846-B5186E72BB9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1635E6-DF71-46FF-B094-2044056BCF9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BBC057-E32F-4050-A977-F11039761A3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83B7B5-5289-4BA0-83CF-9E502F8ACF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09F31B-7AB1-4C0F-ABC6-27BA2646031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8D86D0-C4C3-45E0-BA2D-D35004E2483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E35107-3D5F-429E-BCE8-8095499C869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20D8870-C45E-4A68-B404-30D2E26F3A1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305AD1-A992-42AA-8883-437270C5A5A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2D1052-8B4C-4BC1-9429-229354669E2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51BCB0-6AA7-40AF-BC35-5D3AA2C0F88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FFAAD8-8A3E-430F-A7A2-422146513A4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F060A3-DEA3-4268-8723-397DB7CC133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568795-5EF4-4212-813A-BA2DBEA069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B1226B-5C19-4D08-8B47-CA337F6743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57EB855-841B-4022-8D07-8B5BDDB293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8C143C-09DA-4F78-9BF0-468D2BB318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8C3A4-6E98-4B7D-B55F-793395D298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1C575-78E8-4C24-AF32-D84B63F49B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140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2B51B-3946-4944-A29B-089E331A4E9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11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10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8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800" y="6244920"/>
            <a:ext cx="3110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F0EB-7278-427C-AB9F-38B56EFED8B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140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AB33-96B3-4CB6-9801-91B4B3D03E0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112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8108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828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sldNum" idx="4"/>
          </p:nvPr>
        </p:nvSpPr>
        <p:spPr>
          <a:xfrm>
            <a:off x="74624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5927-8F43-4E36-82BF-FF531834F7F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6" name=""/>
          <p:cNvGrpSpPr/>
          <p:nvPr/>
        </p:nvGrpSpPr>
        <p:grpSpPr>
          <a:xfrm>
            <a:off x="318960" y="1752480"/>
            <a:ext cx="8825040" cy="5129280"/>
            <a:chOff x="318960" y="1752480"/>
            <a:chExt cx="8825040" cy="5129280"/>
          </a:xfrm>
        </p:grpSpPr>
        <p:grpSp>
          <p:nvGrpSpPr>
            <p:cNvPr id="157" name=""/>
            <p:cNvGrpSpPr/>
            <p:nvPr/>
          </p:nvGrpSpPr>
          <p:grpSpPr>
            <a:xfrm>
              <a:off x="333360" y="1752480"/>
              <a:ext cx="8810640" cy="5105520"/>
              <a:chOff x="333360" y="1752480"/>
              <a:chExt cx="8810640" cy="5105520"/>
            </a:xfrm>
          </p:grpSpPr>
          <p:sp>
            <p:nvSpPr>
              <p:cNvPr id="158" name=""/>
              <p:cNvSpPr/>
              <p:nvPr/>
            </p:nvSpPr>
            <p:spPr>
              <a:xfrm>
                <a:off x="333360" y="1752480"/>
                <a:ext cx="8810640" cy="5105520"/>
              </a:xfrm>
              <a:prstGeom prst="pie">
                <a:avLst/>
              </a:prstGeom>
              <a:solidFill>
                <a:srgbClr val="006600">
                  <a:alpha val="3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9" name=""/>
              <p:cNvSpPr/>
              <p:nvPr/>
            </p:nvSpPr>
            <p:spPr>
              <a:xfrm>
                <a:off x="333360" y="1752480"/>
                <a:ext cx="8810640" cy="51055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60" name=""/>
            <p:cNvGrpSpPr/>
            <p:nvPr/>
          </p:nvGrpSpPr>
          <p:grpSpPr>
            <a:xfrm>
              <a:off x="838080" y="3809880"/>
              <a:ext cx="8305920" cy="3048120"/>
              <a:chOff x="838080" y="3809880"/>
              <a:chExt cx="8305920" cy="3048120"/>
            </a:xfrm>
          </p:grpSpPr>
          <p:sp>
            <p:nvSpPr>
              <p:cNvPr id="161" name=""/>
              <p:cNvSpPr/>
              <p:nvPr/>
            </p:nvSpPr>
            <p:spPr>
              <a:xfrm>
                <a:off x="838080" y="3809880"/>
                <a:ext cx="8305920" cy="30481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2" name=""/>
              <p:cNvSpPr/>
              <p:nvPr/>
            </p:nvSpPr>
            <p:spPr>
              <a:xfrm>
                <a:off x="838080" y="3809880"/>
                <a:ext cx="8305920" cy="30481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63" name=""/>
            <p:cNvGrpSpPr/>
            <p:nvPr/>
          </p:nvGrpSpPr>
          <p:grpSpPr>
            <a:xfrm>
              <a:off x="318960" y="3773520"/>
              <a:ext cx="5484960" cy="45720"/>
              <a:chOff x="318960" y="3773520"/>
              <a:chExt cx="5484960" cy="45720"/>
            </a:xfrm>
          </p:grpSpPr>
          <p:sp>
            <p:nvSpPr>
              <p:cNvPr id="164" name=""/>
              <p:cNvSpPr/>
              <p:nvPr/>
            </p:nvSpPr>
            <p:spPr>
              <a:xfrm>
                <a:off x="318960" y="3773520"/>
                <a:ext cx="5484960" cy="4572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5" name=""/>
              <p:cNvSpPr/>
              <p:nvPr/>
            </p:nvSpPr>
            <p:spPr>
              <a:xfrm>
                <a:off x="318960" y="3773520"/>
                <a:ext cx="5484960" cy="457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66" name=""/>
            <p:cNvGrpSpPr/>
            <p:nvPr/>
          </p:nvGrpSpPr>
          <p:grpSpPr>
            <a:xfrm>
              <a:off x="838080" y="1752480"/>
              <a:ext cx="7769160" cy="46080"/>
              <a:chOff x="838080" y="1752480"/>
              <a:chExt cx="7769160" cy="46080"/>
            </a:xfrm>
          </p:grpSpPr>
          <p:sp>
            <p:nvSpPr>
              <p:cNvPr id="167" name=""/>
              <p:cNvSpPr/>
              <p:nvPr/>
            </p:nvSpPr>
            <p:spPr>
              <a:xfrm>
                <a:off x="838080" y="1752480"/>
                <a:ext cx="77691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8" name=""/>
              <p:cNvSpPr/>
              <p:nvPr/>
            </p:nvSpPr>
            <p:spPr>
              <a:xfrm>
                <a:off x="838080" y="1752480"/>
                <a:ext cx="77691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69" name=""/>
            <p:cNvGrpSpPr/>
            <p:nvPr/>
          </p:nvGrpSpPr>
          <p:grpSpPr>
            <a:xfrm>
              <a:off x="318960" y="3773520"/>
              <a:ext cx="47520" cy="3108240"/>
              <a:chOff x="318960" y="3773520"/>
              <a:chExt cx="47520" cy="3108240"/>
            </a:xfrm>
          </p:grpSpPr>
          <p:sp>
            <p:nvSpPr>
              <p:cNvPr id="170" name=""/>
              <p:cNvSpPr/>
              <p:nvPr/>
            </p:nvSpPr>
            <p:spPr>
              <a:xfrm>
                <a:off x="318960" y="3773520"/>
                <a:ext cx="47520" cy="310680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1" name=""/>
              <p:cNvSpPr/>
              <p:nvPr/>
            </p:nvSpPr>
            <p:spPr>
              <a:xfrm>
                <a:off x="318960" y="3773520"/>
                <a:ext cx="47520" cy="31082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72" name=""/>
            <p:cNvGrpSpPr/>
            <p:nvPr/>
          </p:nvGrpSpPr>
          <p:grpSpPr>
            <a:xfrm>
              <a:off x="838080" y="1752480"/>
              <a:ext cx="46080" cy="5119560"/>
              <a:chOff x="838080" y="1752480"/>
              <a:chExt cx="46080" cy="5119560"/>
            </a:xfrm>
          </p:grpSpPr>
          <p:sp>
            <p:nvSpPr>
              <p:cNvPr id="173" name=""/>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4" name=""/>
              <p:cNvSpPr/>
              <p:nvPr/>
            </p:nvSpPr>
            <p:spPr>
              <a:xfrm>
                <a:off x="838080" y="1752480"/>
                <a:ext cx="46080" cy="5119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sp>
        <p:nvSpPr>
          <p:cNvPr id="175" name="PlaceHolder 1"/>
          <p:cNvSpPr>
            <a:spLocks noGrp="1"/>
          </p:cNvSpPr>
          <p:nvPr>
            <p:ph type="title"/>
          </p:nvPr>
        </p:nvSpPr>
        <p:spPr>
          <a:xfrm>
            <a:off x="990720" y="1904760"/>
            <a:ext cx="7772400" cy="1981080"/>
          </a:xfrm>
          <a:prstGeom prst="rect">
            <a:avLst/>
          </a:prstGeom>
          <a:noFill/>
          <a:ln w="0">
            <a:noFill/>
          </a:ln>
        </p:spPr>
        <p:txBody>
          <a:bodyPr lIns="50760" rIns="81360" tIns="50760" bIns="5076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76" name="PlaceHolder 2"/>
          <p:cNvSpPr>
            <a:spLocks noGrp="1"/>
          </p:cNvSpPr>
          <p:nvPr>
            <p:ph/>
          </p:nvPr>
        </p:nvSpPr>
        <p:spPr>
          <a:xfrm>
            <a:off x="1600200" y="3885840"/>
            <a:ext cx="6781680" cy="2971800"/>
          </a:xfrm>
          <a:prstGeom prst="rect">
            <a:avLst/>
          </a:prstGeom>
          <a:noFill/>
          <a:ln w="0">
            <a:noFill/>
          </a:ln>
        </p:spPr>
        <p:txBody>
          <a:bodyPr lIns="50760" rIns="8136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ヒラギノ角ゴ ProN W3"/>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178" name="PlaceHolder 2"/>
          <p:cNvSpPr>
            <a:spLocks noGrp="1"/>
          </p:cNvSpPr>
          <p:nvPr>
            <p:ph/>
          </p:nvPr>
        </p:nvSpPr>
        <p:spPr>
          <a:xfrm>
            <a:off x="457200" y="1599840"/>
            <a:ext cx="8229600" cy="5257800"/>
          </a:xfrm>
          <a:prstGeom prst="rect">
            <a:avLst/>
          </a:prstGeom>
          <a:noFill/>
          <a:ln w="0">
            <a:noFill/>
          </a:ln>
        </p:spPr>
        <p:txBody>
          <a:bodyPr lIns="50760" rIns="81360" tIns="50760" bIns="50760" anchor="t">
            <a:normAutofit/>
          </a:bodyPr>
          <a:p>
            <a:pPr marL="382680" indent="-343080">
              <a:lnSpc>
                <a:spcPct val="100000"/>
              </a:lnSpc>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318960" y="1828800"/>
            <a:ext cx="8825040" cy="5029200"/>
            <a:chOff x="318960" y="1828800"/>
            <a:chExt cx="8825040" cy="5029200"/>
          </a:xfrm>
        </p:grpSpPr>
        <p:grpSp>
          <p:nvGrpSpPr>
            <p:cNvPr id="180" name=""/>
            <p:cNvGrpSpPr/>
            <p:nvPr/>
          </p:nvGrpSpPr>
          <p:grpSpPr>
            <a:xfrm>
              <a:off x="838080" y="4618080"/>
              <a:ext cx="8305920" cy="2239920"/>
              <a:chOff x="838080" y="4618080"/>
              <a:chExt cx="8305920" cy="2239920"/>
            </a:xfrm>
          </p:grpSpPr>
          <p:sp>
            <p:nvSpPr>
              <p:cNvPr id="181" name=""/>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2" name=""/>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83" name=""/>
            <p:cNvGrpSpPr/>
            <p:nvPr/>
          </p:nvGrpSpPr>
          <p:grpSpPr>
            <a:xfrm>
              <a:off x="333360" y="1828800"/>
              <a:ext cx="8810640" cy="5028840"/>
              <a:chOff x="333360" y="1828800"/>
              <a:chExt cx="8810640" cy="5028840"/>
            </a:xfrm>
          </p:grpSpPr>
          <p:sp>
            <p:nvSpPr>
              <p:cNvPr id="184" name=""/>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5" name=""/>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86" name=""/>
            <p:cNvGrpSpPr/>
            <p:nvPr/>
          </p:nvGrpSpPr>
          <p:grpSpPr>
            <a:xfrm>
              <a:off x="838080" y="4654440"/>
              <a:ext cx="8305920" cy="2203560"/>
              <a:chOff x="838080" y="4654440"/>
              <a:chExt cx="8305920" cy="2203560"/>
            </a:xfrm>
          </p:grpSpPr>
          <p:sp>
            <p:nvSpPr>
              <p:cNvPr id="187"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8" name=""/>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89" name=""/>
            <p:cNvGrpSpPr/>
            <p:nvPr/>
          </p:nvGrpSpPr>
          <p:grpSpPr>
            <a:xfrm>
              <a:off x="838080" y="1828800"/>
              <a:ext cx="7313760" cy="46080"/>
              <a:chOff x="838080" y="1828800"/>
              <a:chExt cx="7313760" cy="46080"/>
            </a:xfrm>
          </p:grpSpPr>
          <p:sp>
            <p:nvSpPr>
              <p:cNvPr id="190"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1" name=""/>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92" name=""/>
            <p:cNvGrpSpPr/>
            <p:nvPr/>
          </p:nvGrpSpPr>
          <p:grpSpPr>
            <a:xfrm>
              <a:off x="838080" y="1828800"/>
              <a:ext cx="46080" cy="2833560"/>
              <a:chOff x="838080" y="1828800"/>
              <a:chExt cx="46080" cy="2833560"/>
            </a:xfrm>
          </p:grpSpPr>
          <p:sp>
            <p:nvSpPr>
              <p:cNvPr id="193"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4" name=""/>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95" name=""/>
            <p:cNvGrpSpPr/>
            <p:nvPr/>
          </p:nvGrpSpPr>
          <p:grpSpPr>
            <a:xfrm>
              <a:off x="836640" y="4610160"/>
              <a:ext cx="45720" cy="2247840"/>
              <a:chOff x="836640" y="4610160"/>
              <a:chExt cx="45720" cy="2247840"/>
            </a:xfrm>
          </p:grpSpPr>
          <p:sp>
            <p:nvSpPr>
              <p:cNvPr id="196"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7" name=""/>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98" name=""/>
            <p:cNvGrpSpPr/>
            <p:nvPr/>
          </p:nvGrpSpPr>
          <p:grpSpPr>
            <a:xfrm>
              <a:off x="318960" y="4610160"/>
              <a:ext cx="4570560" cy="46080"/>
              <a:chOff x="318960" y="4610160"/>
              <a:chExt cx="4570560" cy="46080"/>
            </a:xfrm>
          </p:grpSpPr>
          <p:sp>
            <p:nvSpPr>
              <p:cNvPr id="199"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00" name=""/>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01" name=""/>
            <p:cNvGrpSpPr/>
            <p:nvPr/>
          </p:nvGrpSpPr>
          <p:grpSpPr>
            <a:xfrm>
              <a:off x="318960" y="4610160"/>
              <a:ext cx="47520" cy="2247840"/>
              <a:chOff x="318960" y="4610160"/>
              <a:chExt cx="47520" cy="2247840"/>
            </a:xfrm>
          </p:grpSpPr>
          <p:sp>
            <p:nvSpPr>
              <p:cNvPr id="202"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03" name=""/>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sp>
        <p:nvSpPr>
          <p:cNvPr id="204"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1: Entitlement</a:t>
            </a:r>
            <a:endParaRPr b="0" lang="en-US" sz="4400" spc="-1" strike="noStrike">
              <a:solidFill>
                <a:srgbClr val="ffffb7"/>
              </a:solidFill>
              <a:latin typeface="Arial Black"/>
            </a:endParaRPr>
          </a:p>
        </p:txBody>
      </p:sp>
      <p:sp>
        <p:nvSpPr>
          <p:cNvPr id="205"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of you people of the outer world have become so infatuated with yourselves that you have failed to take into consideration anybody but yourselves. The Amazon is not only our living place, it is our birthright. Just like you people have your holy land, we have ours. And it is this land here. You have condescendingly forgotten about more than 50 uncontacted tribes. This forest not only shelters us, but it provides us our daily exultation.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only do you people have to take action now to help us, you must take action now to help yourselves. At least 60-80% of all logging in the Amazon is ILLEGAL. But that doesn’t seem to stop you people from further harming our sacred land. Statistics have reported that at the rate of deforestation we are currently going at, by the year of 2030 of your peoples time, our holy land will be destroyed beyond repair. That means less holy air that you call oxygen that provides your lungs with the wind it needs. The fabric of this world will continue to tear if we keep at it. So please, for our sake and the sake of the world, please, please stop destroying the forest.”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ief Jaguar</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318960" y="1828800"/>
            <a:ext cx="8825040" cy="5029200"/>
            <a:chOff x="318960" y="1828800"/>
            <a:chExt cx="8825040" cy="5029200"/>
          </a:xfrm>
        </p:grpSpPr>
        <p:grpSp>
          <p:nvGrpSpPr>
            <p:cNvPr id="207" name=""/>
            <p:cNvGrpSpPr/>
            <p:nvPr/>
          </p:nvGrpSpPr>
          <p:grpSpPr>
            <a:xfrm>
              <a:off x="838080" y="4618080"/>
              <a:ext cx="8305920" cy="2239920"/>
              <a:chOff x="838080" y="4618080"/>
              <a:chExt cx="8305920" cy="2239920"/>
            </a:xfrm>
          </p:grpSpPr>
          <p:sp>
            <p:nvSpPr>
              <p:cNvPr id="208" name=""/>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09" name=""/>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10" name=""/>
            <p:cNvGrpSpPr/>
            <p:nvPr/>
          </p:nvGrpSpPr>
          <p:grpSpPr>
            <a:xfrm>
              <a:off x="333360" y="1828800"/>
              <a:ext cx="8810640" cy="5028840"/>
              <a:chOff x="333360" y="1828800"/>
              <a:chExt cx="8810640" cy="5028840"/>
            </a:xfrm>
          </p:grpSpPr>
          <p:sp>
            <p:nvSpPr>
              <p:cNvPr id="211" name=""/>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12" name=""/>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13" name=""/>
            <p:cNvGrpSpPr/>
            <p:nvPr/>
          </p:nvGrpSpPr>
          <p:grpSpPr>
            <a:xfrm>
              <a:off x="838080" y="4654440"/>
              <a:ext cx="8305920" cy="2203560"/>
              <a:chOff x="838080" y="4654440"/>
              <a:chExt cx="8305920" cy="2203560"/>
            </a:xfrm>
          </p:grpSpPr>
          <p:sp>
            <p:nvSpPr>
              <p:cNvPr id="214"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15" name=""/>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16" name=""/>
            <p:cNvGrpSpPr/>
            <p:nvPr/>
          </p:nvGrpSpPr>
          <p:grpSpPr>
            <a:xfrm>
              <a:off x="838080" y="1828800"/>
              <a:ext cx="7313760" cy="46080"/>
              <a:chOff x="838080" y="1828800"/>
              <a:chExt cx="7313760" cy="46080"/>
            </a:xfrm>
          </p:grpSpPr>
          <p:sp>
            <p:nvSpPr>
              <p:cNvPr id="217"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18" name=""/>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19" name=""/>
            <p:cNvGrpSpPr/>
            <p:nvPr/>
          </p:nvGrpSpPr>
          <p:grpSpPr>
            <a:xfrm>
              <a:off x="838080" y="1828800"/>
              <a:ext cx="46080" cy="2833560"/>
              <a:chOff x="838080" y="1828800"/>
              <a:chExt cx="46080" cy="2833560"/>
            </a:xfrm>
          </p:grpSpPr>
          <p:sp>
            <p:nvSpPr>
              <p:cNvPr id="220"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21" name=""/>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22" name=""/>
            <p:cNvGrpSpPr/>
            <p:nvPr/>
          </p:nvGrpSpPr>
          <p:grpSpPr>
            <a:xfrm>
              <a:off x="836640" y="4610160"/>
              <a:ext cx="45720" cy="2247840"/>
              <a:chOff x="836640" y="4610160"/>
              <a:chExt cx="45720" cy="2247840"/>
            </a:xfrm>
          </p:grpSpPr>
          <p:sp>
            <p:nvSpPr>
              <p:cNvPr id="223"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24" name=""/>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25" name=""/>
            <p:cNvGrpSpPr/>
            <p:nvPr/>
          </p:nvGrpSpPr>
          <p:grpSpPr>
            <a:xfrm>
              <a:off x="318960" y="4610160"/>
              <a:ext cx="4570560" cy="46080"/>
              <a:chOff x="318960" y="4610160"/>
              <a:chExt cx="4570560" cy="46080"/>
            </a:xfrm>
          </p:grpSpPr>
          <p:sp>
            <p:nvSpPr>
              <p:cNvPr id="226"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27" name=""/>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28" name=""/>
            <p:cNvGrpSpPr/>
            <p:nvPr/>
          </p:nvGrpSpPr>
          <p:grpSpPr>
            <a:xfrm>
              <a:off x="318960" y="4610160"/>
              <a:ext cx="47520" cy="2247840"/>
              <a:chOff x="318960" y="4610160"/>
              <a:chExt cx="47520" cy="2247840"/>
            </a:xfrm>
          </p:grpSpPr>
          <p:sp>
            <p:nvSpPr>
              <p:cNvPr id="229"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30" name=""/>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sp>
        <p:nvSpPr>
          <p:cNvPr id="231"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 2 Abuse</a:t>
            </a:r>
            <a:endParaRPr b="0" lang="en-US" sz="4400" spc="-1" strike="noStrike">
              <a:solidFill>
                <a:srgbClr val="ffffb7"/>
              </a:solidFill>
              <a:latin typeface="Arial Black"/>
            </a:endParaRPr>
          </a:p>
        </p:txBody>
      </p:sp>
      <p:sp>
        <p:nvSpPr>
          <p:cNvPr id="232"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N W3"/>
              </a:rPr>
              <a:t>	</a:t>
            </a:r>
            <a:r>
              <a:rPr b="0" lang="en-US" sz="1800" spc="-1" strike="noStrike">
                <a:solidFill>
                  <a:srgbClr val="ffffff"/>
                </a:solidFill>
                <a:latin typeface="Arial"/>
              </a:rPr>
              <a:t>Many tribes have been driven off and even killed by settlers wanting their land for ranching, farming, timber and oil. Some natives were forced to work in sugar plantations or mines. Between 1900 and 1967, an around 98 tribes were wiped out, simply because of the greed of settlers. </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year 1967 agency officials and land speculators of the Indian Protection Service slaughtered our people by purposely giving them disease-laced clothing.</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 1967, construction began on a transcontinental highway which cleared thousands of miles of forests. Our reservations suffered massive deforestation and flooding. Migrants from the project brought new diseases like small-pox, measles and even the common cold, which devastated our population. </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ft, forced labor, mass murder, and mistreatment are no way to handle the situation.</a:t>
            </a:r>
            <a:endParaRPr b="0" lang="en-US" sz="1800" spc="-1" strike="noStrike">
              <a:solidFill>
                <a:srgbClr val="ffffff"/>
              </a:solidFill>
              <a:latin typeface="Arial"/>
            </a:endParaRPr>
          </a:p>
          <a:p>
            <a:pPr marL="3826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33" name=""/>
          <p:cNvGrpSpPr/>
          <p:nvPr/>
        </p:nvGrpSpPr>
        <p:grpSpPr>
          <a:xfrm>
            <a:off x="318960" y="1828800"/>
            <a:ext cx="8825040" cy="5029200"/>
            <a:chOff x="318960" y="1828800"/>
            <a:chExt cx="8825040" cy="5029200"/>
          </a:xfrm>
        </p:grpSpPr>
        <p:grpSp>
          <p:nvGrpSpPr>
            <p:cNvPr id="234" name=""/>
            <p:cNvGrpSpPr/>
            <p:nvPr/>
          </p:nvGrpSpPr>
          <p:grpSpPr>
            <a:xfrm>
              <a:off x="838080" y="4618080"/>
              <a:ext cx="8305920" cy="2239920"/>
              <a:chOff x="838080" y="4618080"/>
              <a:chExt cx="8305920" cy="2239920"/>
            </a:xfrm>
          </p:grpSpPr>
          <p:sp>
            <p:nvSpPr>
              <p:cNvPr id="235" name=""/>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36" name=""/>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37" name=""/>
            <p:cNvGrpSpPr/>
            <p:nvPr/>
          </p:nvGrpSpPr>
          <p:grpSpPr>
            <a:xfrm>
              <a:off x="333360" y="1828800"/>
              <a:ext cx="8810640" cy="5028840"/>
              <a:chOff x="333360" y="1828800"/>
              <a:chExt cx="8810640" cy="5028840"/>
            </a:xfrm>
          </p:grpSpPr>
          <p:sp>
            <p:nvSpPr>
              <p:cNvPr id="238" name=""/>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39" name=""/>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40" name=""/>
            <p:cNvGrpSpPr/>
            <p:nvPr/>
          </p:nvGrpSpPr>
          <p:grpSpPr>
            <a:xfrm>
              <a:off x="838080" y="4654440"/>
              <a:ext cx="8305920" cy="2203560"/>
              <a:chOff x="838080" y="4654440"/>
              <a:chExt cx="8305920" cy="2203560"/>
            </a:xfrm>
          </p:grpSpPr>
          <p:sp>
            <p:nvSpPr>
              <p:cNvPr id="241"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42" name=""/>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43" name=""/>
            <p:cNvGrpSpPr/>
            <p:nvPr/>
          </p:nvGrpSpPr>
          <p:grpSpPr>
            <a:xfrm>
              <a:off x="838080" y="1828800"/>
              <a:ext cx="7313760" cy="46080"/>
              <a:chOff x="838080" y="1828800"/>
              <a:chExt cx="7313760" cy="46080"/>
            </a:xfrm>
          </p:grpSpPr>
          <p:sp>
            <p:nvSpPr>
              <p:cNvPr id="244"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45" name=""/>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46" name=""/>
            <p:cNvGrpSpPr/>
            <p:nvPr/>
          </p:nvGrpSpPr>
          <p:grpSpPr>
            <a:xfrm>
              <a:off x="838080" y="1828800"/>
              <a:ext cx="46080" cy="2833560"/>
              <a:chOff x="838080" y="1828800"/>
              <a:chExt cx="46080" cy="2833560"/>
            </a:xfrm>
          </p:grpSpPr>
          <p:sp>
            <p:nvSpPr>
              <p:cNvPr id="247"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48" name=""/>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49" name=""/>
            <p:cNvGrpSpPr/>
            <p:nvPr/>
          </p:nvGrpSpPr>
          <p:grpSpPr>
            <a:xfrm>
              <a:off x="836640" y="4610160"/>
              <a:ext cx="45720" cy="2247840"/>
              <a:chOff x="836640" y="4610160"/>
              <a:chExt cx="45720" cy="2247840"/>
            </a:xfrm>
          </p:grpSpPr>
          <p:sp>
            <p:nvSpPr>
              <p:cNvPr id="250"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51" name=""/>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52" name=""/>
            <p:cNvGrpSpPr/>
            <p:nvPr/>
          </p:nvGrpSpPr>
          <p:grpSpPr>
            <a:xfrm>
              <a:off x="318960" y="4610160"/>
              <a:ext cx="4570560" cy="46080"/>
              <a:chOff x="318960" y="4610160"/>
              <a:chExt cx="4570560" cy="46080"/>
            </a:xfrm>
          </p:grpSpPr>
          <p:sp>
            <p:nvSpPr>
              <p:cNvPr id="253"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54" name=""/>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55" name=""/>
            <p:cNvGrpSpPr/>
            <p:nvPr/>
          </p:nvGrpSpPr>
          <p:grpSpPr>
            <a:xfrm>
              <a:off x="318960" y="4610160"/>
              <a:ext cx="47520" cy="2247840"/>
              <a:chOff x="318960" y="4610160"/>
              <a:chExt cx="47520" cy="2247840"/>
            </a:xfrm>
          </p:grpSpPr>
          <p:sp>
            <p:nvSpPr>
              <p:cNvPr id="256"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57" name=""/>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sp>
        <p:nvSpPr>
          <p:cNvPr id="258"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3: Dependence</a:t>
            </a:r>
            <a:endParaRPr b="0" lang="en-US" sz="4400" spc="-1" strike="noStrike">
              <a:solidFill>
                <a:srgbClr val="ffffb7"/>
              </a:solidFill>
              <a:latin typeface="Arial Black"/>
            </a:endParaRPr>
          </a:p>
        </p:txBody>
      </p:sp>
      <p:sp>
        <p:nvSpPr>
          <p:cNvPr id="259"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inforest is the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 To deprive us of our home and neccessities by cutting and destroying the rainforest would be of equivalence to having your modes of infastructure destroyed. We depend on these plants and animals for our native people and tribes to survive.</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cc32"/>
            </a:gs>
            <a:gs pos="100000">
              <a:srgbClr val="65ff65"/>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380880" y="1371600"/>
            <a:ext cx="3706920" cy="4800600"/>
          </a:xfrm>
          <a:prstGeom prst="rect">
            <a:avLst/>
          </a:prstGeom>
          <a:ln w="0">
            <a:noFill/>
          </a:ln>
        </p:spPr>
      </p:pic>
      <p:sp>
        <p:nvSpPr>
          <p:cNvPr id="26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ândido Rondon </a:t>
            </a:r>
            <a:endParaRPr b="0" lang="en-US" sz="4400" spc="-1" strike="noStrike">
              <a:solidFill>
                <a:srgbClr val="000000"/>
              </a:solidFill>
              <a:latin typeface="Arial"/>
            </a:endParaRPr>
          </a:p>
        </p:txBody>
      </p:sp>
      <p:sp>
        <p:nvSpPr>
          <p:cNvPr id="262" name=""/>
          <p:cNvSpPr/>
          <p:nvPr/>
        </p:nvSpPr>
        <p:spPr>
          <a:xfrm>
            <a:off x="5105520" y="1371600"/>
            <a:ext cx="380988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ândido Rondon helped establish the National Foundation for Indians, which was the first federal agency charged with protecting Indians and preserving their culture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flipV="1">
            <a:off x="1981080" y="1828800"/>
            <a:ext cx="1067040" cy="3808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4" name=""/>
          <p:cNvSpPr/>
          <p:nvPr/>
        </p:nvSpPr>
        <p:spPr>
          <a:xfrm flipH="1">
            <a:off x="4876560" y="380880"/>
            <a:ext cx="68580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5" name=""/>
          <p:cNvSpPr/>
          <p:nvPr/>
        </p:nvSpPr>
        <p:spPr>
          <a:xfrm flipH="1" flipV="1">
            <a:off x="5105520" y="4038120"/>
            <a:ext cx="167616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6" name=""/>
          <p:cNvSpPr/>
          <p:nvPr/>
        </p:nvSpPr>
        <p:spPr>
          <a:xfrm>
            <a:off x="5851440" y="228600"/>
            <a:ext cx="1859400" cy="67068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Arial Black"/>
              </a:rPr>
              <a:t>Tri Nguyen</a:t>
            </a:r>
            <a:endParaRPr b="0" lang="en-US" sz="22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Arial Black"/>
              </a:rPr>
              <a:t>[Jaguar Tribe]</a:t>
            </a:r>
            <a:endParaRPr b="0" lang="en-US" sz="2200" spc="-1" strike="noStrike">
              <a:solidFill>
                <a:srgbClr val="ffffff"/>
              </a:solidFill>
              <a:latin typeface="Arial"/>
            </a:endParaRPr>
          </a:p>
        </p:txBody>
      </p:sp>
      <p:sp>
        <p:nvSpPr>
          <p:cNvPr id="267" name=""/>
          <p:cNvSpPr/>
          <p:nvPr/>
        </p:nvSpPr>
        <p:spPr>
          <a:xfrm>
            <a:off x="6477120" y="4572000"/>
            <a:ext cx="2666880" cy="1333440"/>
          </a:xfrm>
          <a:prstGeom prst="rect">
            <a:avLst/>
          </a:prstGeom>
          <a:noFill/>
          <a:ln w="0">
            <a:noFill/>
          </a:ln>
        </p:spPr>
        <p:style>
          <a:lnRef idx="0"/>
          <a:fillRef idx="0"/>
          <a:effectRef idx="0"/>
          <a:fontRef idx="minor"/>
        </p:style>
        <p:txBody>
          <a:bodyPr lIns="0" rIns="40680" tIns="0" bIns="0" anchor="t" anchorCtr="1">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rial Black"/>
              </a:rPr>
              <a:t>Elias Osio</a:t>
            </a:r>
            <a:endParaRPr b="0" lang="en-US" sz="24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rial Black"/>
              </a:rPr>
              <a:t>[Korubos Tribe]</a:t>
            </a:r>
            <a:endParaRPr b="0" lang="en-US" sz="2400" spc="-1" strike="noStrike">
              <a:solidFill>
                <a:srgbClr val="ffffff"/>
              </a:solidFill>
              <a:latin typeface="Arial"/>
            </a:endParaRPr>
          </a:p>
        </p:txBody>
      </p:sp>
      <p:sp>
        <p:nvSpPr>
          <p:cNvPr id="268" name=""/>
          <p:cNvSpPr/>
          <p:nvPr/>
        </p:nvSpPr>
        <p:spPr>
          <a:xfrm>
            <a:off x="405360" y="2286000"/>
            <a:ext cx="1778760" cy="61020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Black"/>
              </a:rPr>
              <a:t>Alex Lemaire </a:t>
            </a:r>
            <a:endParaRPr b="0" lang="en-US" sz="20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Black"/>
              </a:rPr>
              <a:t>[Matsés Tribe]</a:t>
            </a:r>
            <a:endParaRPr b="0" lang="en-US" sz="2000" spc="-1" strike="noStrike">
              <a:solidFill>
                <a:srgbClr val="ffffff"/>
              </a:solidFill>
              <a:latin typeface="Arial"/>
            </a:endParaRPr>
          </a:p>
        </p:txBody>
      </p:sp>
      <p:sp>
        <p:nvSpPr>
          <p:cNvPr id="269" name=""/>
          <p:cNvSpPr/>
          <p:nvPr/>
        </p:nvSpPr>
        <p:spPr>
          <a:xfrm flipV="1">
            <a:off x="1370880" y="4343040"/>
            <a:ext cx="1219320" cy="3049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70" name=""/>
          <p:cNvSpPr/>
          <p:nvPr/>
        </p:nvSpPr>
        <p:spPr>
          <a:xfrm>
            <a:off x="417960" y="4724280"/>
            <a:ext cx="1638360" cy="25956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ea typeface="Arial Black"/>
              </a:rPr>
              <a:t>ALIEN DEVICE?!</a:t>
            </a:r>
            <a:endParaRPr b="0" lang="en-US" sz="17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dc:language>en-US</dc:language>
  <cp:lastModifiedBy/>
  <cp:revision>0</cp:revision>
  <dc:subject/>
  <dc:title>Native Peoples</dc:title>
</cp:coreProperties>
</file>