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2FF-D378-4034-A9C8-571188CF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F36-E45F-428A-ADEF-F260FD28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601-3127-4F35-9224-2A5E2421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50F-1CB7-4736-A10F-6993A9B8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9A8-7EB0-4D4C-8339-D95D0142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048-A811-4A33-86F5-9F051392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EBF-9302-42D7-8736-8F4199A0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8BE-A88A-4A1D-A5C2-121A4965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2BB-CA59-4EC0-9068-8A7AC31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185-24F2-4BC0-8DD9-BC7E17F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8EC-12A6-4965-8BE9-1715322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061-18C4-4D02-9B6E-F130D39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6C17-2B13-431E-A5E7-E75288717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chokwemasks-1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What are masks used for in traditional African cult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What is the purpose of animal mas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What do broad foreheads symbol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o 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chokwemasks-1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we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here are the Chokwe fr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hat role do spirits play in the Chokwe reli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te Chokwe M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oose another type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 - Cho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rite the name of the group of masks that you ch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Describe the significance of your choi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ate example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00:27Z</dcterms:created>
  <dc:creator>CFISD</dc:creator>
  <dc:description/>
  <dc:language>en-US</dc:language>
  <cp:lastModifiedBy>CFISD</cp:lastModifiedBy>
  <dcterms:modified xsi:type="dcterms:W3CDTF">2009-05-08T13:04:22Z</dcterms:modified>
  <cp:revision>2</cp:revision>
  <dc:subject/>
  <dc:title>African Culture</dc:title>
</cp:coreProperties>
</file>