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F1D-9E04-4C38-87A2-6C342128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E12-FAC0-4F0C-AE4B-C355CCAA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276-1E70-4D78-B0DE-467DB1A4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CD1-0D13-41CD-B49E-F37B3D04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22B-4488-4EC7-B6F0-69396B43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639-3785-4E36-8B0F-6CDE8851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D4B-DA92-4589-92BA-180609F0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7D9-EB67-4459-9633-9CE0BB3D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9E1-2E57-414B-9AC9-D73E0D3B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159-D795-414C-AC96-E11F0A9E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ED6-C07C-49AA-A3DE-C8E4FCEC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BA7-E92D-4358-9AB7-243C7E59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7142-4266-435E-B2DB-3711D537B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fricanart.com/chokwemasks-1.aspx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fricanart.com/africanmasks.aspx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What are masks used for in traditional African cult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What is the purpose of animal mas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What do broad foreheads symbol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o 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chokwemasks-1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we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here are the Chokwe fro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What role do spirits play in the Chokwe reli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te Chokwe M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n Art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o her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fricanart.com/africanmasks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oose another type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s - Cho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rite the name of the group of masks that you ch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Describe the significance of your choi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Sketch your favoriate example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3:00:27Z</dcterms:created>
  <dc:creator>CFISD</dc:creator>
  <dc:description/>
  <dc:language>en-US</dc:language>
  <cp:lastModifiedBy>CFISD</cp:lastModifiedBy>
  <dcterms:modified xsi:type="dcterms:W3CDTF">2009-05-08T13:04:22Z</dcterms:modified>
  <cp:revision>2</cp:revision>
  <dc:subject/>
  <dc:title>African Culture</dc:title>
</cp:coreProperties>
</file>