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C0F-93B8-41A3-AE5A-06E7486E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F10-CF5C-46DC-A5E5-A724EB67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808-3C71-4680-8509-5DA8893F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BAE-EECF-4B5C-AE93-11F558CF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86EB-6414-4F4E-8235-446FD772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0AB-FCE0-49C3-931A-3F58FDD7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15D-D0EB-4414-A330-A739C86B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7B9-2D68-4AF7-AC80-900A83A5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F45E-C91D-4FB5-822D-1D6C4472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6BD9-2ADB-434B-847D-178B16CB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ACB-AC19-417E-9A43-9F7B6A25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796-C998-4E6B-8EB4-8D705E95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B1D7-BAA1-41B3-A3F3-1B0BD522A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fricanart.com/africanmasks.aspx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fricanart.com/chokwemasks-1.aspx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fricanart.com/africanmasks.aspx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o her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fricanart.com/africanmasks.as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What are masks used for in traditional African cultu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What is the purpose of animal mask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What do broad foreheads symboliz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o 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fricanart.com/chokwemasks-1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kwe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Where are the Chokwe fro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What role do spirits play in the Chokwe relig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Sketch your favorite Chokwe M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o her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fricanart.com/africanmasks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oose another type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s - Cho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Write the name of the group of masks that you cho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Describe the significance of your choi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Sketch your favoriate example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3:00:27Z</dcterms:created>
  <dc:creator>CFISD</dc:creator>
  <dc:description/>
  <dc:language>en-US</dc:language>
  <cp:lastModifiedBy>CFISD</cp:lastModifiedBy>
  <dcterms:modified xsi:type="dcterms:W3CDTF">2009-05-08T13:04:22Z</dcterms:modified>
  <cp:revision>2</cp:revision>
  <dc:subject/>
  <dc:title>African Culture</dc:title>
</cp:coreProperties>
</file>