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63C-5C2C-4B5E-A851-12345AE7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5B3-D1BA-44D1-B2E3-969D47CA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FE9-BC39-463B-92C7-74E30D33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36D-253B-4DC8-94C8-DB7B63B3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6ED-F873-46C8-A8FC-C989054E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703-1EC9-47F1-9CB6-E61570AC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EF0-C776-4F60-9C81-6C2A5621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9CD-CEF3-4E62-9C24-F673D1A1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3A5-8BA8-4FB1-9F29-4BF45FB6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540-9BAE-4800-B8EE-8054BF7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87B-A29B-4D69-A50F-7F112247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009-E2E7-4EF5-BAE2-35E5D421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13E7-A7DC-4C06-B333-4E6974A2F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fricanart.com/chokwemasks-1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What are masks used for in traditional African cult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What is the purpose of animal mas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What do broad foreheads symbol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o 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chokwemasks-1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we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here are the Chokwe fr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What role do spirits play in the Chokwe reli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te Chokwe M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oose another type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s - Cho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rite the name of the group of masks that you ch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Describe the significance of your choi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ate example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3:00:27Z</dcterms:created>
  <dc:creator>CFISD</dc:creator>
  <dc:description/>
  <dc:language>en-US</dc:language>
  <cp:lastModifiedBy>CFISD</cp:lastModifiedBy>
  <dcterms:modified xsi:type="dcterms:W3CDTF">2009-05-08T13:04:22Z</dcterms:modified>
  <cp:revision>2</cp:revision>
  <dc:subject/>
  <dc:title>African Culture</dc:title>
</cp:coreProperties>
</file>