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01B-2A29-4B95-AB25-7FA6F704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5C2-8309-45C8-9863-E98A388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D96-2451-4ACF-A8BA-96C6E3B2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990-5864-4D75-9390-64DE3E87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87A-3F00-42AA-9E4C-3378777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C3B-FE77-4135-9346-A0582A69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868E-DA82-4844-AD86-25470567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2F1-11C4-4F3D-A978-3E0420BE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43D-C053-4025-8692-6C2A8FD9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B41-0F18-4EC5-B8BD-37F9A505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380-65B9-4222-BC19-C1A5E74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D85-AE66-4298-9F9F-08301E0F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B7E5-F909-4731-A3F7-9A206164C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fricanart.com/images/products/detail/IMG_1911_edited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images/products/detail/OOAKCHO50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ProductImages/mk-59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 Fl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728720"/>
            <a:ext cx="38102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asks are used in masquerades that form part of religious cerem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nimal masks help them communicate with spirits that live in forests or open savan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oberness of ones duty that comes with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Central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The spirits protect the people from intruders and evil supernatural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733920"/>
            <a:ext cx="379872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asai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These masks are made by some of the most well known African ethnic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365760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3:08:14Z</dcterms:created>
  <dc:creator>Home</dc:creator>
  <dc:description/>
  <dc:language>en-US</dc:language>
  <cp:lastModifiedBy>Home</cp:lastModifiedBy>
  <dcterms:modified xsi:type="dcterms:W3CDTF">2009-05-13T03:18:47Z</dcterms:modified>
  <cp:revision>2</cp:revision>
  <dc:subject/>
  <dc:title>African Art</dc:title>
</cp:coreProperties>
</file>