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7F3-8D81-4BD3-BB97-CFFB09A7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19A-8DCB-4C7B-9DBD-C33E442D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5CB-830F-4690-977D-224BC8F9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374-9E21-4EDD-B414-1AC57DF2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5AA-1F48-4EE4-BD8A-320C747B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427-C19C-4EA3-9621-60DAE973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ED3-4B84-4C3D-9EC5-079A6DB9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E96-68AD-4A09-BF52-19895C4B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6CB-0C6A-4F37-8E55-E09531BE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B77-1613-40A7-ACC0-2AF75CB6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69D-E85F-4FDA-8C82-20495710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AE1-53A1-4AA8-A0D6-03734BA3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6F3F-F16B-422D-9777-C310471B9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fricanart.com/images/products/detail/IMG_1911_edited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fricanart.com/images/products/detail/OOAKCHO50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fricanart.com/ProductImages/mk-59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ob Flo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728720"/>
            <a:ext cx="38102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Masks are used in masquerades that form part of religious ceremo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nimal masks help them communicate with spirits that live in forests or open savan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Soberness of ones duty that comes with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entral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The spirits protect the people from intruders and evil supernatural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733920"/>
            <a:ext cx="379872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Masai M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These masks are made by some of the most well known African ethnic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657600"/>
            <a:ext cx="320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3:08:14Z</dcterms:created>
  <dc:creator>Home</dc:creator>
  <dc:description/>
  <dc:language>en-US</dc:language>
  <cp:lastModifiedBy>Home</cp:lastModifiedBy>
  <dcterms:modified xsi:type="dcterms:W3CDTF">2009-05-13T03:18:47Z</dcterms:modified>
  <cp:revision>2</cp:revision>
  <dc:subject/>
  <dc:title>African Art</dc:title>
</cp:coreProperties>
</file>