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B9D-7C6C-476E-B468-553F7E0F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08A-3D5F-4B50-A31D-72F8E25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7C9-F197-4C9A-89B8-9252D397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11E-974F-4C2E-A283-F1B1E29A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DD0-68EB-4CBB-B33E-85028D3A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3FF-C4AC-4E8D-97DE-813711D8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5E4-F129-46E3-8FE6-0CFEF0D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2D3-648A-4D3D-AAD5-FDD79B30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A6C-0DA3-43A9-8951-56DBDC6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C72-A098-4012-9B80-0AFE9A1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2B1-A62E-4756-ADD0-E7C774D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8EC-5094-48FF-8668-8A455F7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0F3E-8B42-43A1-9054-BAA2FA50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IMG_1911_edited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OOAKCHO50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ProductImages/mk-59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728720"/>
            <a:ext cx="381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ks are used in masquerades that form part of religious cerem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nimal masks help them communicate with spirits that live in forests or open savan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berness of ones duty that comes with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entral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 spirits protect the people from intruders and evil supernatur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733920"/>
            <a:ext cx="37987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ai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se masks are made by some of the most well known African ethnic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3:08:14Z</dcterms:created>
  <dc:creator>Home</dc:creator>
  <dc:description/>
  <dc:language>en-US</dc:language>
  <cp:lastModifiedBy>Home</cp:lastModifiedBy>
  <dcterms:modified xsi:type="dcterms:W3CDTF">2009-05-13T03:18:47Z</dcterms:modified>
  <cp:revision>2</cp:revision>
  <dc:subject/>
  <dc:title>African Art</dc:title>
</cp:coreProperties>
</file>