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46B-20FF-419F-BF59-8491F0CC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80B-41D6-405A-B268-AF33771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9EF-CE6B-4E4B-8D44-ED375732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830-9C20-482E-996B-7600941F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590-75ED-47BC-B8EE-8199DC60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B14-A038-4C64-881E-F8116EA5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2C8-E73E-4BA9-BA7D-3F8D7A9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19B-6C2D-4A44-8803-0720118D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EA7-9DF4-49A4-A976-70A6EC56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FE6-B654-4F0D-9588-03390D9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362-0FB2-4D02-BF84-AA1F9E1F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62E-0580-474F-BE12-3AB9D60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4919-8E5A-43F7-90ED-E0946DD78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IMG_1911_edited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OOAKCHO50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ProductImages/mk-59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728720"/>
            <a:ext cx="381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ks are used in masquerades that form part of religious cerem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nimal masks help them communicate with spirits that live in forests or open savan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berness of ones duty that comes with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entral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 spirits protect the people from intruders and evil supernatur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733920"/>
            <a:ext cx="37987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ai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se masks are made by some of the most well known African ethnic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3:08:14Z</dcterms:created>
  <dc:creator>Home</dc:creator>
  <dc:description/>
  <dc:language>en-US</dc:language>
  <cp:lastModifiedBy>Home</cp:lastModifiedBy>
  <dcterms:modified xsi:type="dcterms:W3CDTF">2009-05-13T03:18:47Z</dcterms:modified>
  <cp:revision>2</cp:revision>
  <dc:subject/>
  <dc:title>African Art</dc:title>
</cp:coreProperties>
</file>