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D08-CDFD-449B-9FF6-23372B73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CB2-B09C-4352-9615-DE5A3CED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23D-5414-4307-9072-160118D0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266-5D3A-466C-9E0B-AB5BDA2B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245F-2D50-417A-99B0-F42A13F3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C3B1-849D-4647-8FFC-F8481293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DD9F-0D67-4ACC-9C5E-E54CCE3F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1AB9-C735-4781-AA9F-515DA22C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E99E-4830-4A85-9074-00C9E364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BA4F-B247-4A76-B525-A5FA37C4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178D-6176-40F0-A03D-DE4D3557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49C3-F55F-43D9-AE61-BDA2F393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443A-D4A4-4983-BC03-76256E966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fricanart.com/africanmasks.aspx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fricanart.com/chokwemasks-1.aspx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fricanart.com/africanmasks.aspx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o her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fricanart.com/africanmasks.as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What are masks used for in traditional African cultu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What is the purpose of animal mask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What do broad foreheads symboliz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o 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fricanart.com/chokwemasks-1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kwe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Where are the Chokwe fro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What role do spirits play in the Chokwe relig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Sketch your favorite Chokwe M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o her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fricanart.com/africanmasks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oose another type of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s - Cho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Write the name of the group of masks that you cho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Describe the significance of your choi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Sketch your favoriate example.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3:00:27Z</dcterms:created>
  <dc:creator>CFISD</dc:creator>
  <dc:description/>
  <dc:language>en-US</dc:language>
  <cp:lastModifiedBy>CFISD</cp:lastModifiedBy>
  <dcterms:modified xsi:type="dcterms:W3CDTF">2009-05-08T13:04:22Z</dcterms:modified>
  <cp:revision>2</cp:revision>
  <dc:subject/>
  <dc:title>African Culture</dc:title>
</cp:coreProperties>
</file>