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592-CFE1-4B90-B88C-DD1305B6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409-7BB5-4A28-A6A0-8864383B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CFD-D0AF-425E-9BE8-6829AC03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2E9-9E22-41FE-AEC7-79AEC737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8CF-CAF7-4263-8F07-94D45D9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2E5-46F2-4D0A-8EEB-3241760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306-FBA5-4673-927D-70A9174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C6F-BB07-42F9-98B4-5007998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638-FF5D-41E3-AE2A-EBD58108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F4F-D1DF-49B8-AD3D-787519F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1D3-CAF7-444C-B70D-F10774A5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20D-83E8-4B7C-A100-CED9D62B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4B7-3166-44C5-BB19-11B58B81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chokwemasks-1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hat are masks used for in traditional African cul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What is the purpose of animal mas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What do broad foreheads symbol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o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chokwemasks-1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w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ere are the Chokw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role do spirits play in the Chokwe reli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te Chokwe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oose another type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-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rite the name of the group of masks that you ch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escribe the significance of your choi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ate example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00:27Z</dcterms:created>
  <dc:creator>CFISD</dc:creator>
  <dc:description/>
  <dc:language>en-US</dc:language>
  <cp:lastModifiedBy>CFISD</cp:lastModifiedBy>
  <dcterms:modified xsi:type="dcterms:W3CDTF">2009-05-08T13:04:22Z</dcterms:modified>
  <cp:revision>2</cp:revision>
  <dc:subject/>
  <dc:title>African Culture</dc:title>
</cp:coreProperties>
</file>