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5775-B075-48E1-B286-F33A8557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AA6C-B601-4408-B18A-BF9B0E57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D713-19FB-4500-BDB9-5E25CAE9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CF9-E6D0-4357-A7F3-9582DDB7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1F3-4300-4E09-B640-1019BCEF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ACCA-D947-4A07-BFEC-1A0DD1F2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1163-976A-4635-8180-9697082E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409-EEF1-44B9-BA2B-D8B17E0F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9BC-300B-40EF-84F6-A65F76CF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362-063C-492E-B6FC-80C64B7A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361-9A6D-443A-8DCC-BCE5E3E0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476-DBEA-489E-BE18-8D705830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2234-6C39-49B9-8437-4CB2EA179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upload.wikimedia.org/wikipedia/commons/6/6d/Satellite_image_of_Great_Britain_and_Northern_Ireland_in_April_2002.jpg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 Col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3355" t="5557" r="1081" b="2148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943240" y="3733920"/>
            <a:ext cx="30481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uropean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5486400" y="151920"/>
            <a:ext cx="3657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 Effect - #2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hristianity spreads to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4343400"/>
            <a:ext cx="1600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of Christi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 Effe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ere a European looking for slaves who would you pic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ffect would this have on African commun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lave Trade Destroys African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s take the strongest, smar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 loses heads of families, leaders, strongest 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uilt infra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ads, Ports, Rail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der-development of Africa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l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et up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nufacturing o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ads to one-commodity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ver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4813200"/>
        </p:xfrm>
        <a:graphic>
          <a:graphicData uri="http://schemas.openxmlformats.org/drawingml/2006/table">
            <a:tbl>
              <a:tblPr/>
              <a:tblGrid>
                <a:gridCol w="1066680"/>
                <a:gridCol w="586764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population/Graying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AFRIC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152280" y="29718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ess who shows up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81280" y="25146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28303" t="0" r="24530" b="0"/>
          <a:stretch/>
        </p:blipFill>
        <p:spPr>
          <a:xfrm>
            <a:off x="6858000" y="2133720"/>
            <a:ext cx="1219320" cy="1904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352680" y="4114800"/>
            <a:ext cx="1708200" cy="2266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934320" y="4572000"/>
            <a:ext cx="114300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2120" y="4495680"/>
            <a:ext cx="1930320" cy="1962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10666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gium, Spain, Italy, England, France,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Image:Satellite image of Great Britain and Northern Ireland in April 200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066680" y="2133720"/>
            <a:ext cx="1371600" cy="1981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24480" y="5715000"/>
            <a:ext cx="990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 19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60562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4648320"/>
            <a:ext cx="990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34160" y="0"/>
            <a:ext cx="2409840" cy="3276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227640" y="46702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4334040"/>
            <a:ext cx="3505320" cy="2523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124080" y="1295280"/>
            <a:ext cx="2819520" cy="2371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0" t="0" r="40002" b="0"/>
          <a:stretch/>
        </p:blipFill>
        <p:spPr>
          <a:xfrm>
            <a:off x="0" y="0"/>
            <a:ext cx="237816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0572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– European Imperialism in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id the Europeans feel about Af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impact did imperialism (colonization) have on Afric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124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6760" y="1600200"/>
            <a:ext cx="236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1676520"/>
            <a:ext cx="2666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1523880"/>
            <a:ext cx="0" cy="4724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80880" y="2286000"/>
            <a:ext cx="8382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1523880"/>
            <a:ext cx="0" cy="4724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Berlin Confer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Europeans divide continent, drew in borders how they wante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frican inp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Leads to conflict today between ethnic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1447920"/>
            <a:ext cx="8381880" cy="2057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fricans struggled to develop functioning political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. Apartheid Cl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scribe the policy of aparthe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ow did the people of South Africa overcome aparthe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447920"/>
            <a:ext cx="8381880" cy="1447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2:28:01Z</dcterms:created>
  <dc:creator>CFISD</dc:creator>
  <dc:description/>
  <dc:language>en-US</dc:language>
  <cp:lastModifiedBy>CFISD</cp:lastModifiedBy>
  <dcterms:modified xsi:type="dcterms:W3CDTF">2009-05-06T12:48:04Z</dcterms:modified>
  <cp:revision>15</cp:revision>
  <dc:subject/>
  <dc:title>Africa Colonization</dc:title>
</cp:coreProperties>
</file>