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D552-5C23-4721-8F49-19B52F97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6F1-180F-4D0B-9E23-BB601A38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B6ED-7BE2-4FF8-A25B-4F719B27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55A0-1DF6-441E-BE38-3D0727DE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FE28-40D8-4C10-A6BC-5E76F50B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918-73E2-4002-A155-28BDE2CC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D6C8-BA45-48BE-ADF7-BC840697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5FB8-DCAE-453F-A623-0C87BB3E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07BF-3307-4106-A73C-AFF408C8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C7B-5355-44FF-A6D2-39A3941C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F659-6BBA-49EF-9DEC-56E43947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8647-A5FC-440A-B2C7-F8218087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D9AB-5E68-4EBC-96FE-A95B58033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http://upload.wikimedia.org/wikipedia/commons/6/6d/Satellite_image_of_Great_Britain_and_Northern_Ireland_in_April_2002.jpg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 Colo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3355" t="5557" r="1081" b="2148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943240" y="3733920"/>
            <a:ext cx="304812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uropean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5486400" y="151920"/>
            <a:ext cx="3657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 Effect - #2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hristianity spreads to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610480" cy="5334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4343400"/>
            <a:ext cx="1600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of Christi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 Effe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ere a European looking for slaves who would you pic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ffect would this have on African commun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lave Trade Destroys African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s take the strongest, smar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ica loses heads of families, leaders, strongest 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uilt infra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ads, Ports, Rail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der-development of Africa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l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et up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nufacturing or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ads to one-commodity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ver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4813200"/>
        </p:xfrm>
        <a:graphic>
          <a:graphicData uri="http://schemas.openxmlformats.org/drawingml/2006/table">
            <a:tbl>
              <a:tblPr/>
              <a:tblGrid>
                <a:gridCol w="1066680"/>
                <a:gridCol w="586764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population/Graying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AFRIC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rt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152280" y="29718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ess who shows up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81280" y="25146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28303" t="0" r="24530" b="0"/>
          <a:stretch/>
        </p:blipFill>
        <p:spPr>
          <a:xfrm>
            <a:off x="6858000" y="2133720"/>
            <a:ext cx="1219320" cy="1904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352680" y="4114800"/>
            <a:ext cx="1708200" cy="2266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934320" y="4572000"/>
            <a:ext cx="114300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2120" y="4495680"/>
            <a:ext cx="1930320" cy="1962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10666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gium, Spain, Italy, England, France,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Image:Satellite image of Great Britain and Northern Ireland in April 200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066680" y="2133720"/>
            <a:ext cx="1371600" cy="1981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24480" y="5715000"/>
            <a:ext cx="990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 19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60562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4648320"/>
            <a:ext cx="990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34160" y="0"/>
            <a:ext cx="2409840" cy="3276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227640" y="46702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4334040"/>
            <a:ext cx="3505320" cy="2523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124080" y="1295280"/>
            <a:ext cx="2819520" cy="2371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rcRect l="0" t="0" r="40002" b="0"/>
          <a:stretch/>
        </p:blipFill>
        <p:spPr>
          <a:xfrm>
            <a:off x="0" y="0"/>
            <a:ext cx="237816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0572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– European Imperialism in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id the Europeans feel about Afr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impact did imperialism (colonization) have on Afric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 this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124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76760" y="1600200"/>
            <a:ext cx="236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1676520"/>
            <a:ext cx="2666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1523880"/>
            <a:ext cx="0" cy="4724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80880" y="2286000"/>
            <a:ext cx="8382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1523880"/>
            <a:ext cx="0" cy="4724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Berlin Confer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Europeans divide continent, drew in borders how they wante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frican inp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Leads to conflict today between ethnic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1447920"/>
            <a:ext cx="8381880" cy="2057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fricans struggled to develop functioning political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. Apartheid Cl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scribe the policy of aparthe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ow did the people of South Africa overcome aparthe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447920"/>
            <a:ext cx="838188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2:28:01Z</dcterms:created>
  <dc:creator>CFISD</dc:creator>
  <dc:description/>
  <dc:language>en-US</dc:language>
  <cp:lastModifiedBy>CFISD</cp:lastModifiedBy>
  <dcterms:modified xsi:type="dcterms:W3CDTF">2009-05-06T12:48:04Z</dcterms:modified>
  <cp:revision>15</cp:revision>
  <dc:subject/>
  <dc:title>Africa Colonization</dc:title>
</cp:coreProperties>
</file>