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62D2-6788-4FBD-A7AF-C040CCE99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5927-BFCF-49CA-8396-F2006B73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47EF-9654-4294-8007-323B6E1F8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FBB3-A205-4B0D-9A6A-126F68C62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89E1-C986-4E87-9191-075B576B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5E6B-994F-4160-858E-BD35ED40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E977-9E9C-43C8-B099-B3B733EA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44CB-763F-4DEF-B4D5-D93D35BD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566A-6745-4CDF-8152-1B2F08D1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B735-1CAB-4C69-A5B4-7409774B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5A98-26EF-48A0-A8CE-151E9C51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7221-BC59-45B1-8E63-4879ADEB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B86E-E088-49F8-AC69-8E028985C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http://upload.wikimedia.org/wikipedia/commons/6/6d/Satellite_image_of_Great_Britain_and_Northern_Ireland_in_April_2002.jpg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 Colo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3355" t="5557" r="1081" b="2148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943240" y="3733920"/>
            <a:ext cx="304812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uropean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5486400" y="151920"/>
            <a:ext cx="3657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Effe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cial Effect - #2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hristianity spreads to Af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610480" cy="5334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0880" y="4343400"/>
            <a:ext cx="1600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age of Christi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cial Effec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ere a European looking for slaves who would you pick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ffect would this have on African commun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lave Trade Destroys African comm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s take the strongest, smar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rica loses heads of families, leaders, strongest 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uilt infrastru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ads, Ports, Railr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der-development of African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al natur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set up busi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nufacturing or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ads to one-commodity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iver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Af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914400"/>
          <a:ext cx="8763120" cy="4813200"/>
        </p:xfrm>
        <a:graphic>
          <a:graphicData uri="http://schemas.openxmlformats.org/drawingml/2006/table">
            <a:tbl>
              <a:tblPr/>
              <a:tblGrid>
                <a:gridCol w="1066680"/>
                <a:gridCol w="5867640"/>
                <a:gridCol w="1828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population/Graying 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AFRIC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rtif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152280" y="29718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ess who shows up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81280" y="251460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28303" t="0" r="24530" b="0"/>
          <a:stretch/>
        </p:blipFill>
        <p:spPr>
          <a:xfrm>
            <a:off x="6858000" y="2133720"/>
            <a:ext cx="1219320" cy="1904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352680" y="4114800"/>
            <a:ext cx="1708200" cy="2266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934320" y="4572000"/>
            <a:ext cx="114300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62120" y="4495680"/>
            <a:ext cx="1930320" cy="1962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" y="10666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gium, Spain, Italy, England, France,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Image:Satellite image of Great Britain and Northern Ireland in April 2002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066680" y="2133720"/>
            <a:ext cx="1371600" cy="1981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324480" y="5715000"/>
            <a:ext cx="9907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 19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124080" y="0"/>
            <a:ext cx="605628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66680" y="4648320"/>
            <a:ext cx="9907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734160" y="0"/>
            <a:ext cx="2409840" cy="3276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227640" y="467028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4334040"/>
            <a:ext cx="3505320" cy="2523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124080" y="1295280"/>
            <a:ext cx="2819520" cy="2371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rcRect l="0" t="0" r="40002" b="0"/>
          <a:stretch/>
        </p:blipFill>
        <p:spPr>
          <a:xfrm>
            <a:off x="0" y="0"/>
            <a:ext cx="2378160" cy="2971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70572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m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96080" y="3352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p – European Imperialism in Af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did the Europeans feel about Afr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impact did imperialism (colonization) have on Afric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 this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31240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476760" y="1600200"/>
            <a:ext cx="236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1676520"/>
            <a:ext cx="2666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1523880"/>
            <a:ext cx="0" cy="4724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80880" y="2286000"/>
            <a:ext cx="8382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1523880"/>
            <a:ext cx="0" cy="4724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Berlin Confer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Europeans divide continent, drew in borders how they wante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frican inp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Leads to conflict today between ethnic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1447920"/>
            <a:ext cx="8381880" cy="2057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fricans struggled to develop functioning political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. Apartheid Cl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escribe the policy of aparthe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How did the people of South Africa overcome aparthe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1447920"/>
            <a:ext cx="8381880" cy="1447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2:28:01Z</dcterms:created>
  <dc:creator>CFISD</dc:creator>
  <dc:description/>
  <dc:language>en-US</dc:language>
  <cp:lastModifiedBy>CFISD</cp:lastModifiedBy>
  <dcterms:modified xsi:type="dcterms:W3CDTF">2009-05-06T12:48:04Z</dcterms:modified>
  <cp:revision>15</cp:revision>
  <dc:subject/>
  <dc:title>Africa Colonization</dc:title>
</cp:coreProperties>
</file>