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126-22CD-4E2A-BF20-AE07979D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AFE-49A9-4811-A49A-11F90CD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6A3-6DE0-4370-9A3B-D9F1207A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E7D-2913-4CF6-942E-66A2AF41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2CF-3267-4621-A8BA-CDD7EC60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93-A3B6-4545-906A-8661F92A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2DC-214D-4C14-A534-171C9493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B3A-0967-4672-897B-BBB5BF50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C76-B47E-43E0-8740-C9EFB12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116-CFAD-43A6-8037-7BF1E97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8EE-78E7-431D-A433-125E32BC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403-AF57-433C-A018-7D0DEE2D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37AC-2BB8-4E6E-9FE3-95FDE52A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upload.wikimedia.org/wikipedia/commons/6/6d/Satellite_image_of_Great_Britain_and_Northern_Ireland_in_April_2002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355" t="5557" r="1081" b="2148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43240" y="3733920"/>
            <a:ext cx="3048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a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486400" y="15192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- #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istianity spreads to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434340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Christi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a European looking for slaves who would you pic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would this have on African comm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ve Trade Destroys Afric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take the strongest, sma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loses heads of families, leaders, strongest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ilt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s, Ports, Rail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-development of Afric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et up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nufacturing 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ds to one-commodity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 shows up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8303" t="0" r="24530" b="0"/>
          <a:stretch/>
        </p:blipFill>
        <p:spPr>
          <a:xfrm>
            <a:off x="6858000" y="21337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17082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45720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1930320" cy="196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, Spain, Italy, England, France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Satellite image of Great Britain and Northern Ireland in April 20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2133720"/>
            <a:ext cx="137160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571500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56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64832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334040"/>
            <a:ext cx="350532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24080" y="1295280"/>
            <a:ext cx="28195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0002" b="0"/>
          <a:stretch/>
        </p:blipFill>
        <p:spPr>
          <a:xfrm>
            <a:off x="0" y="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European Imperialism in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Europeans feel about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mpact did imperialism (colonization) have on Afr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760" y="1600200"/>
            <a:ext cx="236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765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880" y="22860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erlin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Europeans divide continent, drew in borders how they wan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eads to conflict today between ethn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447920"/>
            <a:ext cx="838188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s struggled to develop functioning political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Apartheid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be the policy of aparth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did the people of South Africa overcome aparthe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838188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8:01Z</dcterms:created>
  <dc:creator>CFISD</dc:creator>
  <dc:description/>
  <dc:language>en-US</dc:language>
  <cp:lastModifiedBy>CFISD</cp:lastModifiedBy>
  <dcterms:modified xsi:type="dcterms:W3CDTF">2009-05-06T12:48:04Z</dcterms:modified>
  <cp:revision>15</cp:revision>
  <dc:subject/>
  <dc:title>Africa Colonization</dc:title>
</cp:coreProperties>
</file>