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931E-9611-4829-BC46-6560DFC5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098E-6AC1-4764-B0D0-6DC78B74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277-7D90-4E28-9454-2779B6C11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66CC-BEFD-4694-A47E-030F80A6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063-C133-42E1-B30E-F06345B6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325-2C92-4606-B5A1-BF1DC06D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FB6A-6963-4CFB-A0F2-76F8DC3E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F97-69C4-407A-BF37-0B6AC786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3FCD-7F1C-4C10-97D2-AE53F857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BC02-0A45-43E5-84C8-AB717460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92BF-E252-453E-A43E-05B5181A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5A4-D886-4A83-BEAD-16B40C92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E0AF-3262-43D7-AD3E-12AE2A1F3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exploringafrica.matrix.msu.edu/students/curriculum/m19/activity4.php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ndemic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pread of a disease over a wide geographic area affecting large numbers of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IDS – Branch of the UN that fights AIDS, studies the worldwide pandem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3505320"/>
            <a:ext cx="8229600" cy="19047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Why is AIDS a pandemic in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 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o education about AIDS and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frican culture works against pre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Limited resources ($$) to help the s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impacts of AI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- People become sick and are unable to wor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 - Labor force is re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 - Production drops, GDP d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 – Poverty INCR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5 – Health care costs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 – Africa Today - 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Africa need to address this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e stigma attached to AIDS exacerbates the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nations in Africa doing to prevent the spread of the pandem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e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xploringafrica.matrix.msu.edu/students/curriculum/m19/activity4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2:21:09Z</dcterms:created>
  <dc:creator>CFISD</dc:creator>
  <dc:description/>
  <dc:language>en-US</dc:language>
  <cp:lastModifiedBy>CFISD</cp:lastModifiedBy>
  <dcterms:modified xsi:type="dcterms:W3CDTF">2009-05-13T12:58:38Z</dcterms:modified>
  <cp:revision>3</cp:revision>
  <dc:subject/>
  <dc:title>AIDS</dc:title>
</cp:coreProperties>
</file>