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839-6194-4EE0-A5E7-C6CED741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44B-28DD-4528-8813-F9707E1C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8A5-7FDA-414E-9FBA-492A9B81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3C1-86A2-4E50-922C-A3994C60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8C4-1B62-4217-8564-78DE4A64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E07-9A3F-4F2F-B676-79E877AA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087-E5C1-4D24-BF79-0307A058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5F9-A6F3-4EDD-AC5D-5DD14653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F1D-6A46-4C8E-904E-242950ED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AF2-06A1-4D8E-833C-0F6B42A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EEF-8DD8-47FB-A979-4972B594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F7E-0C96-425C-BF24-68767806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FFA7-1543-47D7-B979-58F0250D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xploringafrica.matrix.msu.edu/students/curriculum/m19/activity4.php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a disease over a wide geographic area affecting large numbers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IDS – Branch of the UN that fights AIDS, studies the worldwide pandem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229600" cy="190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 is AIDS a pandemic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 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education about AIDS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 culture works against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imited resources ($$) to help the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impacts of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- People become sick and are unable to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- Labor force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- Production drops, GDP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Povert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– Health care costs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xploringafrica.matrix.msu.edu/students/curriculum/m19/activity4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2:21:09Z</dcterms:created>
  <dc:creator>CFISD</dc:creator>
  <dc:description/>
  <dc:language>en-US</dc:language>
  <cp:lastModifiedBy>CFISD</cp:lastModifiedBy>
  <dcterms:modified xsi:type="dcterms:W3CDTF">2009-05-13T12:58:38Z</dcterms:modified>
  <cp:revision>3</cp:revision>
  <dc:subject/>
  <dc:title>AIDS</dc:title>
</cp:coreProperties>
</file>