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07C4-D041-460F-BF1C-C58C3403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84F-F7CF-4CD4-A764-32E9A470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691-6D73-48E9-BA9A-1F58D84A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45A8-651D-469A-8BA4-144C8E75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4EF3-67CD-46F0-902B-0DF8B769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8C91-0BA4-4386-A3D7-7375F7D0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695-0B10-42A9-A943-32A25D91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148F-05F2-4586-BFAD-5DCD25D3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FCD-F863-4790-8B0C-001EDB05B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F362-5CF2-474A-B8D7-43922674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C56-C847-4D22-8D71-629A8C38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184-42F2-4BCB-8E7B-C52D9BA2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C2F6-98DD-4847-B9FD-BCCD7A4D9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loringafrica.matrix.msu.edu/students/curriculum/m19/activity4.php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a disease over a wide geographic area affecting large number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IDS – Branch of the UN that fights AIDS, studies the worldwide pande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190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s AIDS a pandemic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education about AID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 culture works against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imited resources ($$) to help the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s of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People become sick and are unable to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Labor force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Production drops, GDP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Pover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– Health care cost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xploringafrica.matrix.msu.edu/students/curriculum/m19/activity4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21:09Z</dcterms:created>
  <dc:creator>CFISD</dc:creator>
  <dc:description/>
  <dc:language>en-US</dc:language>
  <cp:lastModifiedBy>CFISD</cp:lastModifiedBy>
  <dcterms:modified xsi:type="dcterms:W3CDTF">2009-05-13T12:58:38Z</dcterms:modified>
  <cp:revision>3</cp:revision>
  <dc:subject/>
  <dc:title>AIDS</dc:title>
</cp:coreProperties>
</file>