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B5C-88F3-4D1D-88E8-5CB6733C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924-A5C3-43B2-B637-34A27017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EBC-5E41-4F4C-8C5E-6A311D39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9A4-51AB-47B5-82C0-9FD5686B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6FE1-FA86-4057-BC14-4124CB35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8DC-63C0-4510-9B14-245D8463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211-7762-4DA9-A7EA-16524269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D30-8CF1-41BD-8F6C-1091675A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F54-2E67-40F8-9752-29F18096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5EC-27E6-43E7-8815-8893825E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F3A-FBC8-4780-B975-54C57D33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706-4DF2-486A-A647-C87CA3D3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A16F-3269-41D0-BD69-C57B06E4E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xploringafrica.matrix.msu.edu/students/curriculum/m19/activity4.php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demic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pread of a disease over a wide geographic area affecting large numbers of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IDS – Branch of the UN that fights AIDS, studies the worldwide pandem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229600" cy="190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y is AIDS a pandemic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 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o education about AIDS and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frican culture works against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Limited resources ($$) to help the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impacts of 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- People become sick and are unable to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- Labor force is re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- Production drops, GDP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– Povert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 – Health care costs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Africa Today - 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frica need to address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stigma attached to AIDS exacerbates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nations in Africa doing to prevent the spread of the pan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xploringafrica.matrix.msu.edu/students/curriculum/m19/activity4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2:21:09Z</dcterms:created>
  <dc:creator>CFISD</dc:creator>
  <dc:description/>
  <dc:language>en-US</dc:language>
  <cp:lastModifiedBy>CFISD</cp:lastModifiedBy>
  <dcterms:modified xsi:type="dcterms:W3CDTF">2009-05-13T12:58:38Z</dcterms:modified>
  <cp:revision>3</cp:revision>
  <dc:subject/>
  <dc:title>AIDS</dc:title>
</cp:coreProperties>
</file>