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D5D-4D87-4F32-B9BC-90948017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BD2B-4EB4-4BDE-83F2-9B5F7BFB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0C1-EE60-4AE4-87F9-91754D52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DE1-26E9-4B01-BB3F-810D9156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B24B-6F0D-49C0-BEDF-BD6F47CF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099C-79C7-47F0-AAFE-C5E84507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A32-C79F-40F5-87E1-EB6A1608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A0CD-6360-4F37-9E79-0D04C3D2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9EB-224B-48A1-954C-C1D527C1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7F04-22EB-4AA9-946A-1C869094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C00E-5823-466A-81F1-09C34574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2E58-EFE2-4612-AB04-63CDE83C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E4F0-6868-46B7-A65A-02E30A83F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ime.com/time/2001/aidsinafrica/map_flash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vert.org/aidsimpact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V/AIDS - 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DS is a disease of the human immune system caused by H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.2 million people suffer from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¾ of all AIDS cases are in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main causes of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ual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Needles (for drugs or tattoos/pierc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gnancy (HIV virus spreads to the bab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Transf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895480"/>
            <a:ext cx="784872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V/A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914400"/>
          <a:ext cx="68198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68198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 flipH="1" flipV="1">
            <a:off x="4451040" y="3468600"/>
            <a:ext cx="2614680" cy="5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677760" y="4016520"/>
            <a:ext cx="3387960" cy="5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66080" y="3560760"/>
            <a:ext cx="207792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AIDS cases are found in Eastern and Souther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5880" y="2870280"/>
            <a:ext cx="1828800" cy="2427120"/>
          </a:xfrm>
          <a:custGeom>
            <a:avLst/>
            <a:gdLst/>
            <a:ahLst/>
            <a:rect l="l" t="t" r="r" b="b"/>
            <a:pathLst>
              <a:path w="907" h="1277">
                <a:moveTo>
                  <a:pt x="727" y="9"/>
                </a:moveTo>
                <a:cubicBezTo>
                  <a:pt x="719" y="10"/>
                  <a:pt x="711" y="10"/>
                  <a:pt x="703" y="12"/>
                </a:cubicBezTo>
                <a:cubicBezTo>
                  <a:pt x="697" y="13"/>
                  <a:pt x="685" y="18"/>
                  <a:pt x="685" y="18"/>
                </a:cubicBezTo>
                <a:cubicBezTo>
                  <a:pt x="667" y="45"/>
                  <a:pt x="610" y="35"/>
                  <a:pt x="589" y="36"/>
                </a:cubicBezTo>
                <a:cubicBezTo>
                  <a:pt x="572" y="42"/>
                  <a:pt x="581" y="55"/>
                  <a:pt x="589" y="66"/>
                </a:cubicBezTo>
                <a:cubicBezTo>
                  <a:pt x="588" y="73"/>
                  <a:pt x="590" y="81"/>
                  <a:pt x="586" y="87"/>
                </a:cubicBezTo>
                <a:cubicBezTo>
                  <a:pt x="580" y="94"/>
                  <a:pt x="559" y="96"/>
                  <a:pt x="559" y="96"/>
                </a:cubicBezTo>
                <a:cubicBezTo>
                  <a:pt x="540" y="125"/>
                  <a:pt x="535" y="178"/>
                  <a:pt x="565" y="198"/>
                </a:cubicBezTo>
                <a:cubicBezTo>
                  <a:pt x="573" y="222"/>
                  <a:pt x="584" y="256"/>
                  <a:pt x="559" y="273"/>
                </a:cubicBezTo>
                <a:cubicBezTo>
                  <a:pt x="539" y="303"/>
                  <a:pt x="542" y="361"/>
                  <a:pt x="562" y="390"/>
                </a:cubicBezTo>
                <a:cubicBezTo>
                  <a:pt x="556" y="439"/>
                  <a:pt x="552" y="405"/>
                  <a:pt x="508" y="420"/>
                </a:cubicBezTo>
                <a:cubicBezTo>
                  <a:pt x="501" y="442"/>
                  <a:pt x="491" y="457"/>
                  <a:pt x="517" y="462"/>
                </a:cubicBezTo>
                <a:cubicBezTo>
                  <a:pt x="521" y="475"/>
                  <a:pt x="518" y="479"/>
                  <a:pt x="505" y="483"/>
                </a:cubicBezTo>
                <a:cubicBezTo>
                  <a:pt x="495" y="498"/>
                  <a:pt x="497" y="518"/>
                  <a:pt x="505" y="534"/>
                </a:cubicBezTo>
                <a:cubicBezTo>
                  <a:pt x="509" y="542"/>
                  <a:pt x="529" y="549"/>
                  <a:pt x="529" y="549"/>
                </a:cubicBezTo>
                <a:cubicBezTo>
                  <a:pt x="537" y="562"/>
                  <a:pt x="544" y="573"/>
                  <a:pt x="526" y="579"/>
                </a:cubicBezTo>
                <a:cubicBezTo>
                  <a:pt x="515" y="575"/>
                  <a:pt x="509" y="568"/>
                  <a:pt x="499" y="561"/>
                </a:cubicBezTo>
                <a:cubicBezTo>
                  <a:pt x="483" y="537"/>
                  <a:pt x="464" y="539"/>
                  <a:pt x="439" y="531"/>
                </a:cubicBezTo>
                <a:cubicBezTo>
                  <a:pt x="406" y="520"/>
                  <a:pt x="456" y="538"/>
                  <a:pt x="421" y="522"/>
                </a:cubicBezTo>
                <a:cubicBezTo>
                  <a:pt x="415" y="519"/>
                  <a:pt x="403" y="516"/>
                  <a:pt x="403" y="516"/>
                </a:cubicBezTo>
                <a:cubicBezTo>
                  <a:pt x="396" y="517"/>
                  <a:pt x="388" y="516"/>
                  <a:pt x="382" y="519"/>
                </a:cubicBezTo>
                <a:cubicBezTo>
                  <a:pt x="370" y="524"/>
                  <a:pt x="373" y="552"/>
                  <a:pt x="364" y="561"/>
                </a:cubicBezTo>
                <a:cubicBezTo>
                  <a:pt x="355" y="570"/>
                  <a:pt x="325" y="570"/>
                  <a:pt x="325" y="570"/>
                </a:cubicBezTo>
                <a:cubicBezTo>
                  <a:pt x="305" y="599"/>
                  <a:pt x="315" y="619"/>
                  <a:pt x="319" y="663"/>
                </a:cubicBezTo>
                <a:cubicBezTo>
                  <a:pt x="319" y="663"/>
                  <a:pt x="326" y="685"/>
                  <a:pt x="328" y="690"/>
                </a:cubicBezTo>
                <a:cubicBezTo>
                  <a:pt x="330" y="696"/>
                  <a:pt x="334" y="708"/>
                  <a:pt x="334" y="708"/>
                </a:cubicBezTo>
                <a:cubicBezTo>
                  <a:pt x="322" y="744"/>
                  <a:pt x="248" y="714"/>
                  <a:pt x="214" y="711"/>
                </a:cubicBezTo>
                <a:cubicBezTo>
                  <a:pt x="211" y="710"/>
                  <a:pt x="208" y="709"/>
                  <a:pt x="205" y="708"/>
                </a:cubicBezTo>
                <a:cubicBezTo>
                  <a:pt x="202" y="706"/>
                  <a:pt x="199" y="703"/>
                  <a:pt x="196" y="702"/>
                </a:cubicBezTo>
                <a:cubicBezTo>
                  <a:pt x="190" y="699"/>
                  <a:pt x="178" y="696"/>
                  <a:pt x="178" y="696"/>
                </a:cubicBezTo>
                <a:cubicBezTo>
                  <a:pt x="168" y="697"/>
                  <a:pt x="158" y="697"/>
                  <a:pt x="148" y="699"/>
                </a:cubicBezTo>
                <a:cubicBezTo>
                  <a:pt x="142" y="700"/>
                  <a:pt x="130" y="705"/>
                  <a:pt x="130" y="705"/>
                </a:cubicBezTo>
                <a:cubicBezTo>
                  <a:pt x="95" y="703"/>
                  <a:pt x="82" y="709"/>
                  <a:pt x="58" y="693"/>
                </a:cubicBezTo>
                <a:cubicBezTo>
                  <a:pt x="42" y="694"/>
                  <a:pt x="25" y="691"/>
                  <a:pt x="10" y="696"/>
                </a:cubicBezTo>
                <a:cubicBezTo>
                  <a:pt x="0" y="699"/>
                  <a:pt x="26" y="719"/>
                  <a:pt x="28" y="720"/>
                </a:cubicBezTo>
                <a:cubicBezTo>
                  <a:pt x="43" y="765"/>
                  <a:pt x="56" y="817"/>
                  <a:pt x="91" y="852"/>
                </a:cubicBezTo>
                <a:cubicBezTo>
                  <a:pt x="77" y="908"/>
                  <a:pt x="92" y="955"/>
                  <a:pt x="103" y="1008"/>
                </a:cubicBezTo>
                <a:cubicBezTo>
                  <a:pt x="107" y="1050"/>
                  <a:pt x="112" y="1065"/>
                  <a:pt x="148" y="1083"/>
                </a:cubicBezTo>
                <a:cubicBezTo>
                  <a:pt x="152" y="1096"/>
                  <a:pt x="161" y="1102"/>
                  <a:pt x="172" y="1110"/>
                </a:cubicBezTo>
                <a:cubicBezTo>
                  <a:pt x="178" y="1129"/>
                  <a:pt x="193" y="1145"/>
                  <a:pt x="199" y="1164"/>
                </a:cubicBezTo>
                <a:cubicBezTo>
                  <a:pt x="178" y="1227"/>
                  <a:pt x="198" y="1223"/>
                  <a:pt x="226" y="1254"/>
                </a:cubicBezTo>
                <a:cubicBezTo>
                  <a:pt x="246" y="1277"/>
                  <a:pt x="228" y="1269"/>
                  <a:pt x="247" y="1275"/>
                </a:cubicBezTo>
                <a:cubicBezTo>
                  <a:pt x="287" y="1273"/>
                  <a:pt x="309" y="1268"/>
                  <a:pt x="346" y="1272"/>
                </a:cubicBezTo>
                <a:cubicBezTo>
                  <a:pt x="368" y="1271"/>
                  <a:pt x="390" y="1273"/>
                  <a:pt x="412" y="1269"/>
                </a:cubicBezTo>
                <a:cubicBezTo>
                  <a:pt x="432" y="1266"/>
                  <a:pt x="437" y="1242"/>
                  <a:pt x="454" y="1236"/>
                </a:cubicBezTo>
                <a:cubicBezTo>
                  <a:pt x="461" y="1215"/>
                  <a:pt x="463" y="1209"/>
                  <a:pt x="475" y="1191"/>
                </a:cubicBezTo>
                <a:cubicBezTo>
                  <a:pt x="480" y="1183"/>
                  <a:pt x="502" y="1179"/>
                  <a:pt x="502" y="1179"/>
                </a:cubicBezTo>
                <a:cubicBezTo>
                  <a:pt x="506" y="1172"/>
                  <a:pt x="542" y="1140"/>
                  <a:pt x="550" y="1137"/>
                </a:cubicBezTo>
                <a:cubicBezTo>
                  <a:pt x="555" y="1114"/>
                  <a:pt x="568" y="1105"/>
                  <a:pt x="574" y="1086"/>
                </a:cubicBezTo>
                <a:cubicBezTo>
                  <a:pt x="576" y="1080"/>
                  <a:pt x="578" y="1072"/>
                  <a:pt x="583" y="1068"/>
                </a:cubicBezTo>
                <a:cubicBezTo>
                  <a:pt x="591" y="1062"/>
                  <a:pt x="606" y="1058"/>
                  <a:pt x="616" y="1056"/>
                </a:cubicBezTo>
                <a:cubicBezTo>
                  <a:pt x="621" y="1042"/>
                  <a:pt x="618" y="1028"/>
                  <a:pt x="613" y="1014"/>
                </a:cubicBezTo>
                <a:cubicBezTo>
                  <a:pt x="614" y="1005"/>
                  <a:pt x="625" y="948"/>
                  <a:pt x="634" y="945"/>
                </a:cubicBezTo>
                <a:cubicBezTo>
                  <a:pt x="646" y="942"/>
                  <a:pt x="658" y="943"/>
                  <a:pt x="670" y="942"/>
                </a:cubicBezTo>
                <a:cubicBezTo>
                  <a:pt x="694" y="926"/>
                  <a:pt x="665" y="947"/>
                  <a:pt x="685" y="927"/>
                </a:cubicBezTo>
                <a:cubicBezTo>
                  <a:pt x="692" y="920"/>
                  <a:pt x="704" y="918"/>
                  <a:pt x="712" y="912"/>
                </a:cubicBezTo>
                <a:cubicBezTo>
                  <a:pt x="717" y="897"/>
                  <a:pt x="722" y="880"/>
                  <a:pt x="715" y="864"/>
                </a:cubicBezTo>
                <a:cubicBezTo>
                  <a:pt x="712" y="858"/>
                  <a:pt x="703" y="859"/>
                  <a:pt x="697" y="855"/>
                </a:cubicBezTo>
                <a:cubicBezTo>
                  <a:pt x="694" y="845"/>
                  <a:pt x="688" y="838"/>
                  <a:pt x="685" y="828"/>
                </a:cubicBezTo>
                <a:cubicBezTo>
                  <a:pt x="688" y="778"/>
                  <a:pt x="687" y="743"/>
                  <a:pt x="739" y="726"/>
                </a:cubicBezTo>
                <a:cubicBezTo>
                  <a:pt x="750" y="715"/>
                  <a:pt x="761" y="713"/>
                  <a:pt x="775" y="708"/>
                </a:cubicBezTo>
                <a:cubicBezTo>
                  <a:pt x="781" y="706"/>
                  <a:pt x="793" y="702"/>
                  <a:pt x="793" y="702"/>
                </a:cubicBezTo>
                <a:cubicBezTo>
                  <a:pt x="799" y="693"/>
                  <a:pt x="806" y="688"/>
                  <a:pt x="814" y="681"/>
                </a:cubicBezTo>
                <a:cubicBezTo>
                  <a:pt x="819" y="676"/>
                  <a:pt x="832" y="669"/>
                  <a:pt x="832" y="669"/>
                </a:cubicBezTo>
                <a:cubicBezTo>
                  <a:pt x="835" y="661"/>
                  <a:pt x="835" y="658"/>
                  <a:pt x="841" y="651"/>
                </a:cubicBezTo>
                <a:cubicBezTo>
                  <a:pt x="847" y="645"/>
                  <a:pt x="859" y="633"/>
                  <a:pt x="859" y="633"/>
                </a:cubicBezTo>
                <a:cubicBezTo>
                  <a:pt x="874" y="587"/>
                  <a:pt x="866" y="536"/>
                  <a:pt x="859" y="489"/>
                </a:cubicBezTo>
                <a:cubicBezTo>
                  <a:pt x="857" y="474"/>
                  <a:pt x="843" y="459"/>
                  <a:pt x="838" y="444"/>
                </a:cubicBezTo>
                <a:cubicBezTo>
                  <a:pt x="836" y="438"/>
                  <a:pt x="832" y="426"/>
                  <a:pt x="832" y="426"/>
                </a:cubicBezTo>
                <a:cubicBezTo>
                  <a:pt x="823" y="349"/>
                  <a:pt x="817" y="314"/>
                  <a:pt x="859" y="252"/>
                </a:cubicBezTo>
                <a:cubicBezTo>
                  <a:pt x="866" y="242"/>
                  <a:pt x="867" y="235"/>
                  <a:pt x="877" y="228"/>
                </a:cubicBezTo>
                <a:cubicBezTo>
                  <a:pt x="886" y="215"/>
                  <a:pt x="898" y="208"/>
                  <a:pt x="907" y="195"/>
                </a:cubicBezTo>
                <a:cubicBezTo>
                  <a:pt x="903" y="170"/>
                  <a:pt x="899" y="167"/>
                  <a:pt x="886" y="147"/>
                </a:cubicBezTo>
                <a:cubicBezTo>
                  <a:pt x="888" y="95"/>
                  <a:pt x="868" y="64"/>
                  <a:pt x="907" y="45"/>
                </a:cubicBezTo>
                <a:cubicBezTo>
                  <a:pt x="901" y="28"/>
                  <a:pt x="894" y="27"/>
                  <a:pt x="880" y="18"/>
                </a:cubicBezTo>
                <a:cubicBezTo>
                  <a:pt x="865" y="19"/>
                  <a:pt x="850" y="19"/>
                  <a:pt x="835" y="21"/>
                </a:cubicBezTo>
                <a:cubicBezTo>
                  <a:pt x="829" y="22"/>
                  <a:pt x="817" y="27"/>
                  <a:pt x="817" y="27"/>
                </a:cubicBezTo>
                <a:cubicBezTo>
                  <a:pt x="800" y="26"/>
                  <a:pt x="779" y="32"/>
                  <a:pt x="766" y="21"/>
                </a:cubicBezTo>
                <a:cubicBezTo>
                  <a:pt x="758" y="14"/>
                  <a:pt x="742" y="0"/>
                  <a:pt x="742" y="0"/>
                </a:cubicBezTo>
                <a:cubicBezTo>
                  <a:pt x="726" y="1"/>
                  <a:pt x="710" y="0"/>
                  <a:pt x="694" y="3"/>
                </a:cubicBezTo>
                <a:cubicBezTo>
                  <a:pt x="690" y="4"/>
                  <a:pt x="688" y="12"/>
                  <a:pt x="688" y="1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– Africa Today - A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frica need to address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he stigma attached to AIDS exacerbates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nations in Africa doing to prevent the spread of the pan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 Activity – 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Map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map belo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ime.com/time/2001/aidsinafrica/map_flash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ord the questions below and the correct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ich regions of Africa have the most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Southern and Northe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outhern and Ea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outhern and W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ich three countries have the highest percentage of adults with AID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ketch a map of Africa and shade the two regions that have the highest AIDS r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Death Stalks a Continent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our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he reading titled “Death Stalks a Contin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5 questions that are embedded in the read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the questions or write your answers in complete sentenc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AIDS Crisi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vert.org/aidsimpac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is resource to answer the questions be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at is the impact of AIDS on the health sect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at is the impact of AIDS on the households (society)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at is the impact of AIDS on the childr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What is the impact of AIDS on the educ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What is the impact of AIDS on the businesses (enterprises and workplaces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What is the impact of AIDS on life expectanc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What is the economic impact of AI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What are the future impacts of AI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8:07:03Z</dcterms:created>
  <dc:creator>CFISD</dc:creator>
  <dc:description/>
  <dc:language>en-US</dc:language>
  <cp:lastModifiedBy>CFISD</cp:lastModifiedBy>
  <dcterms:modified xsi:type="dcterms:W3CDTF">2009-05-14T12:43:50Z</dcterms:modified>
  <cp:revision>4</cp:revision>
  <dc:subject/>
  <dc:title>AIDS Day 2</dc:title>
</cp:coreProperties>
</file>