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D049-AB3F-4C8A-99A2-739B31315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9B0C-752C-403F-A2E8-3FC8A61F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CC47-DEBF-4D2A-9079-FD51B2549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1E74-7A29-4E5D-B1A6-A316AF7F6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E9DF-2B57-437A-9FE6-68E41460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1059-CADD-42B1-B859-931D0DA5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E89A-4004-4765-83AA-47D973F4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C037-55AB-492E-809F-7441D0A2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67AE-9C31-4BD1-8977-76BD3FE9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A956-170E-4E4F-88D0-D640551D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76AE-5223-42D1-852D-7C213102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E05A-70AB-4ECE-89F8-34BEA91A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9AD8-0A87-4C66-8CD0-51852D7A9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Trip to Dub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ias Os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urj Al Arab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is hotel sits 321 meters above sea level on an man-made island linked to the Dubai mainland by causeway. The decor throughout is lavish, in bold tones, and amenities include a full-service health spa, indoor swimming pool, and hair salon. Complimentary wireless Internet is available throughout, and airport transfers via limousine or helicopter can be arrang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ubai’s 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ubai was a trading center before it discovered its own oil in 1966, which led to an explosion of jobs and economic growth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Persian Gulf War caused an increase of trade and global demand for oil, which accelerated the economic growth of Dubai even mo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on after the war the </a:t>
            </a:r>
            <a:r>
              <a:rPr b="0" lang="en-US" sz="1600" spc="-1" strike="noStrike">
                <a:solidFill>
                  <a:srgbClr val="ffffff"/>
                </a:solidFill>
                <a:latin typeface="menu"/>
              </a:rPr>
              <a:t>Burj Al Arab, one of the tallest hotels in the world, opened up in 1999. This further enhanced Dubai’s reputation as a tourist dest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men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enu"/>
              </a:rPr>
              <a:t>To this day Dubai is known for its daring real estate projects and impressively high standard of livi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ight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hile I am in Dubai I plan to enjoy the nightlife by visiting some of the many night clubs and bars, such 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ccff"/>
                </a:solidFill>
                <a:latin typeface="Times New Roman"/>
              </a:rPr>
              <a:t>Atlant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9933"/>
                </a:solidFill>
                <a:latin typeface="Times New Roman"/>
              </a:rPr>
              <a:t>Boudoir Nightcl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ff00"/>
                </a:solidFill>
                <a:latin typeface="Times New Roman"/>
              </a:rPr>
              <a:t>Chi Nightcl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66ff"/>
                </a:solidFill>
                <a:latin typeface="Times New Roman"/>
              </a:rPr>
              <a:t>Ginse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Kasb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Peppermint Cl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cc00ff"/>
                </a:solidFill>
                <a:latin typeface="Times New Roman"/>
              </a:rPr>
              <a:t>Tropic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ccffff"/>
                </a:solidFill>
                <a:latin typeface="Times New Roman"/>
              </a:rPr>
              <a:t>Tri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Night clubs represent modernization because they are the result of urbanization and looser laws and social attitudes that aren’t based on religious tex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hop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lls and shopping centers such as the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ll of the Emirate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e examples of modernization because the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e the result of industrialization and urbanization. If it wasn’t for these two things shopping malls would not ex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taur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taurants such as Kiku, a Japanese restaurant, are examples of modernization because urbanization, industrialization, and social diversity allow fine establishments like these to be success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olf Cour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lf courses lik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ubai Creek Golf &amp; Yacht Club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the famous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irates Golf Club are examples of modernization they profit of the tourism industry, and they are the result of a social and cultural ch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ld Wali Water Pa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water park is an example of modernization because it profits from the tourism industry. Also, it shows a change in cul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01:03:54Z</dcterms:created>
  <dc:creator>Administrator</dc:creator>
  <dc:description/>
  <dc:language>en-US</dc:language>
  <cp:lastModifiedBy>Administrator</cp:lastModifiedBy>
  <dcterms:modified xsi:type="dcterms:W3CDTF">2009-02-19T02:11:16Z</dcterms:modified>
  <cp:revision>38</cp:revision>
  <dc:subject/>
  <dc:title>A Trip to Dubai</dc:title>
</cp:coreProperties>
</file>