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76F-B968-419E-A4BD-7BD98B6D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7AC-F523-42C0-A5D6-C5295CB8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36C-DA66-453C-AFA4-B76CB204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21B-B124-40C5-99A5-FC6E253C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67D-B361-4B93-898B-F5298E4F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BC4-2E63-497B-BC12-F538C60B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4C5-0601-4677-827C-1E99F00B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960-B1A4-40AA-8C26-8EDAE1CD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21D-1F84-4D64-9D6E-C9476837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05B-1A50-424A-8935-E8C2A43E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027-4C5A-4923-A45E-45BF33DF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897-CD0C-46FC-9738-33A4A65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69CB-81D5-4D89-9C75-9843B4C71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rip to Dub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urj Al Arab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hotel sits 321 meters above sea level on an man-made island linked to the Dubai mainland by causeway. The decor throughout is lavish, in bold tones, and amenities include a full-service health spa, indoor swimming pool, and hair salon. Complimentary wireless Internet is available throughout, and airport transfers via limousine or helicopter can be arr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bai’s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ubai was a trading center before it discovered its own oil in 1966, which led to an explosion of jobs and economic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Persian Gulf War caused an increase of trade and global demand for oil, which accelerated the economic growth of Dubai even m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on after the war the </a:t>
            </a: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Burj Al Arab, one of the tallest hotels in the world, opened up in 1999. This further enhanced Dubai’s reputation as a tourist dest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men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To this day Dubai is known for its daring real estate projects and impressively high standard of liv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ight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ile I am in Dubai I plan to enjoy the nightlife by visiting some of the many night clubs and bars, such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Atlan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Boudoir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Chi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66ff"/>
                </a:solidFill>
                <a:latin typeface="Times New Roman"/>
              </a:rPr>
              <a:t>Gins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Ka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eppermint 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Tropic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Tri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ight clubs represent modernization because they are the result of urbanization and looser laws and social attitudes that aren’t based on religious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ls and shopping centers such as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ll of the Emirat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examples of modernization because the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the result of industrialization and urbanization. If it wasn’t for these two things shopping malls would not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aurants such as Kiku, a Japanese restaurant, are examples of modernization because urbanization, industrialization, and social diversity allow fine establishments like these to b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lf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f courses li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ubai Creek Golf &amp; Yacht Club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famou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rates Golf Club are examples of modernization they profit of the tourism industry, and they are the result of a social and cultura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Wali Water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ter park is an example of modernization because it profits from the tourism industry. Also, it shows a change i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03:54Z</dcterms:created>
  <dc:creator>Administrator</dc:creator>
  <dc:description/>
  <dc:language>en-US</dc:language>
  <cp:lastModifiedBy>Administrator</cp:lastModifiedBy>
  <dcterms:modified xsi:type="dcterms:W3CDTF">2009-02-19T02:11:16Z</dcterms:modified>
  <cp:revision>38</cp:revision>
  <dc:subject/>
  <dc:title>A Trip to Dubai</dc:title>
</cp:coreProperties>
</file>