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6871-595E-4C8D-8A87-508B7C00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1AF8-01FA-4EC8-ADC1-D41C9A34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AF16-3A86-47F3-A6DF-8700882C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5A4-4190-440D-83AC-8D98400D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8C7C-B13C-4E8E-9CBD-274443EA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AE3D-1736-4A62-9F0E-2BDCFBE5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EC78-181A-4CC8-BD18-252013E4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C361-D0C7-4193-91C5-FF34BECF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967-DF90-497F-ACB1-4AF0D989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70DA-B04C-438D-891B-6F06DD17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E776-1C5A-4678-A4CC-05110B01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0DB-87E9-4728-8951-B9D1EE58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DA6E-7E0C-4BFD-9929-B44A663BF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Trip to Dub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as Os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urj Al Arab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hotel sits 321 meters above sea level on an man-made island linked to the Dubai mainland by causeway. The decor throughout is lavish, in bold tones, and amenities include a full-service health spa, indoor swimming pool, and hair salon. Complimentary wireless Internet is available throughout, and airport transfers via limousine or helicopter can be arrang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bai’s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ubai was a trading center before it discovered its own oil in 1966, which led to an explosion of jobs and economic growt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Persian Gulf War caused an increase of trade and global demand for oil, which accelerated the economic growth of Dubai even m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on after the war the </a:t>
            </a:r>
            <a:r>
              <a:rPr b="0" lang="en-US" sz="1600" spc="-1" strike="noStrike">
                <a:solidFill>
                  <a:srgbClr val="ffffff"/>
                </a:solidFill>
                <a:latin typeface="menu"/>
              </a:rPr>
              <a:t>Burj Al Arab, one of the tallest hotels in the world, opened up in 1999. This further enhanced Dubai’s reputation as a tourist dest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men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enu"/>
              </a:rPr>
              <a:t>To this day Dubai is known for its daring real estate projects and impressively high standard of liv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ight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hile I am in Dubai I plan to enjoy the nightlife by visiting some of the many night clubs and bars, such 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ccff"/>
                </a:solidFill>
                <a:latin typeface="Times New Roman"/>
              </a:rPr>
              <a:t>Atlant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9933"/>
                </a:solidFill>
                <a:latin typeface="Times New Roman"/>
              </a:rPr>
              <a:t>Boudoir Nightc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Chi Nightc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66ff"/>
                </a:solidFill>
                <a:latin typeface="Times New Roman"/>
              </a:rPr>
              <a:t>Ginse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Kas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Peppermint C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cc00ff"/>
                </a:solidFill>
                <a:latin typeface="Times New Roman"/>
              </a:rPr>
              <a:t>Tropic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ccffff"/>
                </a:solidFill>
                <a:latin typeface="Times New Roman"/>
              </a:rPr>
              <a:t>Tri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ight clubs represent modernization because they are the result of urbanization and looser laws and social attitudes that aren’t based on religious tex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o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lls and shopping centers such as th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ll of the Emirat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 examples of modernization because the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 the result of industrialization and urbanization. If it wasn’t for these two things shopping malls would not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taur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aurants such as Kiku, a Japanese restaurant, are examples of modernization because urbanization, industrialization, and social diversity allow fine establishments like these to be success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olf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lf courses lik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ubai Creek Golf &amp; Yacht Club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 famou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irates Golf Club are examples of modernization they profit of the tourism industry, and they are the result of a social and cultural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d Wali Water P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water park is an example of modernization because it profits from the tourism industry. Also, it shows a change in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1:03:54Z</dcterms:created>
  <dc:creator>Administrator</dc:creator>
  <dc:description/>
  <dc:language>en-US</dc:language>
  <cp:lastModifiedBy>Administrator</cp:lastModifiedBy>
  <dcterms:modified xsi:type="dcterms:W3CDTF">2009-02-19T02:11:16Z</dcterms:modified>
  <cp:revision>38</cp:revision>
  <dc:subject/>
  <dc:title>A Trip to Dubai</dc:title>
</cp:coreProperties>
</file>