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59C-0DA9-4807-99CE-7C2DEE46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B0A-A0B0-4E49-9952-2652AD73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C8A-5071-4C1A-87CF-91176365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5C8-ED56-43F5-8CA2-2512EFAC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40A-6040-4747-9305-E2553BE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2D5-EB85-4FF5-9CCC-D7467AD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DFF-EC45-422A-A01E-A89AD623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EFA-C0B6-4794-B422-7E8D88A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598-2BB3-4BE2-B381-F89E3329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9FD-1713-41A0-8B52-953D022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1CE-9957-48E4-A58A-1E02166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2A4-EE0F-408D-ACAF-A01EEF68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162-0C6C-4A3D-9F0E-70DCD145C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rip to Dub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urj Al Arab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hotel sits 321 meters above sea level on an man-made island linked to the Dubai mainland by causeway. The decor throughout is lavish, in bold tones, and amenities include a full-service health spa, indoor swimming pool, and hair salon. Complimentary wireless Internet is available throughout, and airport transfers via limousine or helicopter can be arr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bai’s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bai was a trading center before it discovered its own oil in 1966, which led to an explosion of jobs and economic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Persian Gulf War caused an increase of trade and global demand for oil, which accelerated the economic growth of Dubai even m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on after the war the </a:t>
            </a: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Burj Al Arab, one of the tallest hotels in the world, opened up in 1999. This further enhanced Dubai’s reputation as a tourist dest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men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To this day Dubai is known for its daring real estate projects and impressively high standard of liv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ight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le I am in Dubai I plan to enjoy the nightlife by visiting some of the many night clubs and bars, such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Atlan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Boudoir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hi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66ff"/>
                </a:solidFill>
                <a:latin typeface="Times New Roman"/>
              </a:rPr>
              <a:t>Gins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Ka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eppermint 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Tropic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Tri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ight clubs represent modernization because they are the result of urbanization and looser laws and social attitudes that aren’t based on religious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ls and shopping centers such as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l of the Emirat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examples of modernization because the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the result of industrialization and urbanization. If it wasn’t for these two things shopping malls would no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aurants such as Kiku, a Japanese restaurant, are examples of modernization because urbanization, industrialization, and social diversity allow fine establishments like these to b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f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f courses li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ubai Creek Golf &amp; Yacht Clu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famou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rates Golf Club are examples of modernization they profit of the tourism industry, and they are the result of a social and cultur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Wali Water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ter park is an example of modernization because it profits from the tourism industry. Also, it shows a change i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3:54Z</dcterms:created>
  <dc:creator>Administrator</dc:creator>
  <dc:description/>
  <dc:language>en-US</dc:language>
  <cp:lastModifiedBy>Administrator</cp:lastModifiedBy>
  <dcterms:modified xsi:type="dcterms:W3CDTF">2009-02-19T02:11:16Z</dcterms:modified>
  <cp:revision>38</cp:revision>
  <dc:subject/>
  <dc:title>A Trip to Dubai</dc:title>
</cp:coreProperties>
</file>