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E98-BA68-414F-820A-82C38F79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2EE-5DF7-4E72-B71F-2F10E9C0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881-3590-4F4D-A486-7D06BEF3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203-2EC9-4848-98A6-D6585050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58C-7C55-4262-B39B-EEBB466A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FA8-A464-4A7E-8500-85CC855E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469-77D8-4996-BCC5-54680CE6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E54-7D71-4855-AC73-49037BDD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882-F2C9-4839-9DAA-D50E9D92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D65-484F-4C56-A415-4DD51C9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EA8-1166-4C67-BF93-50DD2324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187-87C9-406E-AE51-BF9840D7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97A5-0EE8-4764-B474-7DC7909C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atransportation.us/hummer-limousines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atransportation.us/municipal-bus-line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15228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28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 th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71840" y="-1300320"/>
            <a:ext cx="14287680" cy="945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causes spatial inequal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responsible for fix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90920" y="5638680"/>
            <a:ext cx="4343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 Pul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push and pull factors that cause people to leave Latin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Census-2000-Data-Top-US-Ancestries-by-County.jpg">
            <a:hlinkClick r:id="rId1"/>
          </p:cNvPr>
          <p:cNvPicPr/>
          <p:nvPr/>
        </p:nvPicPr>
        <p:blipFill>
          <a:blip r:embed="rId2"/>
          <a:srcRect l="1673" t="25552" r="1673" b="4443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562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estry with largest population by coun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does this map reflect abou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676520" y="5105520"/>
            <a:ext cx="571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after the tou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up – Copy this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Characteristics of Spatial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438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2057400"/>
            <a:ext cx="8229600" cy="4572000"/>
            <a:chOff x="380880" y="2057400"/>
            <a:chExt cx="8229600" cy="4572000"/>
          </a:xfrm>
        </p:grpSpPr>
        <p:sp>
          <p:nvSpPr>
            <p:cNvPr id="53" name=""/>
            <p:cNvSpPr/>
            <p:nvPr/>
          </p:nvSpPr>
          <p:spPr>
            <a:xfrm>
              <a:off x="4495680" y="2057400"/>
              <a:ext cx="0" cy="45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about to take a tour of Mexic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ny families with different standards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scribe the differences and evidence of spatial inequality in each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2 Hummer Li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371600"/>
            <a:ext cx="4191120" cy="220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Municipal Bus Transport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4191120"/>
            <a:ext cx="4267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– determines how crowded an area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people per square 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Space/person – areas of undeveloped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xi 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45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05:12:36Z</dcterms:created>
  <dc:creator>Jeff</dc:creator>
  <dc:description/>
  <dc:language>en-US</dc:language>
  <cp:lastModifiedBy>CFISD</cp:lastModifiedBy>
  <dcterms:modified xsi:type="dcterms:W3CDTF">2009-02-02T13:50:42Z</dcterms:modified>
  <cp:revision>11</cp:revision>
  <dc:subject/>
  <dc:title>Slide 1</dc:title>
</cp:coreProperties>
</file>