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69A8C-E710-4390-B6EA-5C554CF59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94478-1C09-4530-89A8-4567BA7F9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E6356-C8B5-42E7-BDF8-168A2040B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4AEFA-9C0D-4E04-8307-8486F894F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FFDE4-468E-4E99-ABE1-76AB2DA9D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01614-EED5-4CE2-A326-9DE0EBC88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6CD61-0289-4037-9800-E83E81B48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93998-80AB-4024-9977-C866E5596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0871D-4BC2-48E6-B94B-1EEA19C3E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62F0C-99EF-4DC1-B628-6F80B7FB7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ACF71-3ADD-4859-99B1-90CDEADD0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26D52-2534-477E-BB80-09046531B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FDC15-D6E0-4455-A521-83B4FADF51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4/45/Census-2000-Data-Top-US-Ancestries-by-County.jpg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aatransportation.us/hummer-limousines.html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www.aatransportation.us/municipal-bus-line.html" TargetMode="External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mig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-714240" y="-76320"/>
            <a:ext cx="10572480" cy="7010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0" y="59436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3" dur="1" fill="hold"/>
                                        <p:tgtEl>
                                          <p:spTgt spid="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-714240" y="-76320"/>
            <a:ext cx="10572480" cy="701064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-152280" y="60199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9" dur="1" fill="hold"/>
                                        <p:tgtEl>
                                          <p:spTgt spid="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cation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-676440" y="-76320"/>
            <a:ext cx="10496880" cy="701064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228600" y="6019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5" dur="1" fill="hold"/>
                                        <p:tgtEl>
                                          <p:spTgt spid="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-676440" y="-76320"/>
            <a:ext cx="10496880" cy="701064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-152280" y="5562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1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viewing the Surve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-2571840" y="-1300320"/>
            <a:ext cx="14287680" cy="945864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7" dur="1" fill="hold"/>
                                        <p:tgtEl>
                                          <p:spTgt spid="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569880"/>
            <a:ext cx="9144000" cy="560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o you think causes spatial inequality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 is responsible for fixing it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would you solve this problem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irections: Under your heading create and complete the Frayer Model below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609480" y="990720"/>
          <a:ext cx="8001000" cy="5243400"/>
        </p:xfrm>
        <a:graphic>
          <a:graphicData uri="http://schemas.openxmlformats.org/drawingml/2006/table">
            <a:tbl>
              <a:tblPr/>
              <a:tblGrid>
                <a:gridCol w="4000680"/>
                <a:gridCol w="4000320"/>
              </a:tblGrid>
              <a:tr h="231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atial Inequality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2. Definition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unequal distribution of wealth and resources in an are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How does this contribute to immigration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Sket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1" name=""/>
          <p:cNvSpPr/>
          <p:nvPr/>
        </p:nvSpPr>
        <p:spPr>
          <a:xfrm>
            <a:off x="2590920" y="5638680"/>
            <a:ext cx="434340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ete #3 and #4 now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sh Pull Fac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a list of push and pull factors that cause people to leave Latin Americ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Image:Census-2000-Data-Top-US-Ancestries-by-County.jpg">
            <a:hlinkClick r:id="rId1"/>
          </p:cNvPr>
          <p:cNvPicPr/>
          <p:nvPr/>
        </p:nvPicPr>
        <p:blipFill>
          <a:blip r:embed="rId2"/>
          <a:srcRect l="1673" t="25552" r="1673" b="4443"/>
          <a:stretch/>
        </p:blipFill>
        <p:spPr>
          <a:xfrm>
            <a:off x="0" y="0"/>
            <a:ext cx="9144000" cy="54864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457200" y="5562720"/>
            <a:ext cx="82296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cestry with largest population by county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What does this map reflect about immigration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irections: Under your heading create and complete the Frayer Model below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609480" y="990720"/>
          <a:ext cx="8001000" cy="5243400"/>
        </p:xfrm>
        <a:graphic>
          <a:graphicData uri="http://schemas.openxmlformats.org/drawingml/2006/table">
            <a:tbl>
              <a:tblPr/>
              <a:tblGrid>
                <a:gridCol w="4000680"/>
                <a:gridCol w="4000320"/>
              </a:tblGrid>
              <a:tr h="231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atial Inequality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2. Definition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unequal distribution of wealth and resources in an are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How does this contribute to immigration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Sket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" name=""/>
          <p:cNvSpPr/>
          <p:nvPr/>
        </p:nvSpPr>
        <p:spPr>
          <a:xfrm>
            <a:off x="1676520" y="5105520"/>
            <a:ext cx="571500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ete #3 and #4 after the tour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tup – Copy this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tle: Characteristics of Spatial Ine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2438280"/>
            <a:ext cx="381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w Standard of Li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724280" y="2438280"/>
            <a:ext cx="426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 Standard of Li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380880" y="2057400"/>
            <a:ext cx="8229600" cy="4572000"/>
            <a:chOff x="380880" y="2057400"/>
            <a:chExt cx="8229600" cy="4572000"/>
          </a:xfrm>
        </p:grpSpPr>
        <p:sp>
          <p:nvSpPr>
            <p:cNvPr id="53" name=""/>
            <p:cNvSpPr/>
            <p:nvPr/>
          </p:nvSpPr>
          <p:spPr>
            <a:xfrm>
              <a:off x="4495680" y="2057400"/>
              <a:ext cx="0" cy="45720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80880" y="3200400"/>
              <a:ext cx="8229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ur of Mexico C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240" y="1219320"/>
            <a:ext cx="42670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are about to take a tour of Mexico 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will visit many families with different standards of liv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ble to describe the differences and evidence of spatial inequality in each neighbor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H2 Hummer Limo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724280" y="1371600"/>
            <a:ext cx="4191120" cy="22068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Municipal Bus Transportation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724280" y="4191120"/>
            <a:ext cx="4267440" cy="22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rms to k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pulation density – determines how crowded an area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asured in people per square m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een Space/person – areas of undeveloped l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asured in square fe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Taxi Tour of Mexico C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-2571840" y="-1414440"/>
            <a:ext cx="14287680" cy="96868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-2571840" y="-1414440"/>
            <a:ext cx="14287680" cy="96868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-45720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7" dur="1" fill="hold"/>
                                        <p:tgtEl>
                                          <p:spTgt spid="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cati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3T05:12:36Z</dcterms:created>
  <dc:creator>Jeff</dc:creator>
  <dc:description/>
  <dc:language>en-US</dc:language>
  <cp:lastModifiedBy>CFISD</cp:lastModifiedBy>
  <dcterms:modified xsi:type="dcterms:W3CDTF">2009-02-02T13:50:42Z</dcterms:modified>
  <cp:revision>11</cp:revision>
  <dc:subject/>
  <dc:title>Slide 1</dc:title>
</cp:coreProperties>
</file>