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2E5F-BF34-4DFD-94A4-4FD9D527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50D-222C-4BE6-9B38-60C377F8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7549-1AFB-4AC0-B577-45C2DE11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42B-F295-46D2-8FBD-0A15F6C7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C8A-BEE3-4C85-9B54-1F9DEF8F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695-0216-4EEC-8457-DFCD7880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9D3-70D0-4504-A6B4-64ED0CDB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F924-EA49-4C99-A75B-644AF93E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9B2-BA5B-4AAC-A097-57804C96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4EEB-608D-481B-833E-B64AF94C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E89E-61E5-40BB-9C5E-499BF8D4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9ED1-AAA2-4DF1-83E7-BE9F581B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45FC-1EC4-4008-AEAE-23C912B48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5/Census-2000-Data-Top-US-Ancestries-by-County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atransportation.us/hummer-limousines.html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aatransportation.us/municipal-bus-line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714240" y="-76320"/>
            <a:ext cx="10572480" cy="7010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714240" y="-76320"/>
            <a:ext cx="10572480" cy="7010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-15228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676440" y="-76320"/>
            <a:ext cx="10496880" cy="7010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676440" y="-76320"/>
            <a:ext cx="10496880" cy="7010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15228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ing the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571840" y="-1300320"/>
            <a:ext cx="14287680" cy="9458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569880"/>
            <a:ext cx="91440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causes spatial inequalit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responsible for fixing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solve this proble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Under your heading create and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990720"/>
          <a:ext cx="8001000" cy="52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Inequalit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. Defini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equal distribution of wealth and resources in an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does this contribute to immigrat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590920" y="5638680"/>
            <a:ext cx="4343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#3 and #4 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h Pul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list of push and pull factors that cause people to leave Latin Amer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Image:Census-2000-Data-Top-US-Ancestries-by-County.jpg">
            <a:hlinkClick r:id="rId1"/>
          </p:cNvPr>
          <p:cNvPicPr/>
          <p:nvPr/>
        </p:nvPicPr>
        <p:blipFill>
          <a:blip r:embed="rId2"/>
          <a:srcRect l="1673" t="25552" r="1673" b="4443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556272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estry with largest population by coun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hat does this map reflect about immigr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Under your heading create and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9480" y="990720"/>
          <a:ext cx="8001000" cy="52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Inequalit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. Defini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equal distribution of wealth and resources in an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does this contribute to immigrat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1676520" y="5105520"/>
            <a:ext cx="5715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#3 and #4 after the tou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tup – Copy this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: Characteristics of Spatial In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438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tandard of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24382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tandard of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2057400"/>
            <a:ext cx="8229600" cy="4572000"/>
            <a:chOff x="380880" y="2057400"/>
            <a:chExt cx="8229600" cy="4572000"/>
          </a:xfrm>
        </p:grpSpPr>
        <p:sp>
          <p:nvSpPr>
            <p:cNvPr id="53" name=""/>
            <p:cNvSpPr/>
            <p:nvPr/>
          </p:nvSpPr>
          <p:spPr>
            <a:xfrm>
              <a:off x="4495680" y="2057400"/>
              <a:ext cx="0" cy="45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r of Mexico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267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about to take a tour of Mexico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visit many families with different standards of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describe the differences and evidence of spatial inequality in each 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2 Hummer Li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371600"/>
            <a:ext cx="4191120" cy="2206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Municipal Bus Transporta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4191120"/>
            <a:ext cx="426744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density – determines how crowded an area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in people per square m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Space/person – areas of undeveloped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in square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axi Tour of Mexico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2571840" y="-1414440"/>
            <a:ext cx="14287680" cy="968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-2571840" y="-1414440"/>
            <a:ext cx="14287680" cy="968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-457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05:12:36Z</dcterms:created>
  <dc:creator>Jeff</dc:creator>
  <dc:description/>
  <dc:language>en-US</dc:language>
  <cp:lastModifiedBy>CFISD</cp:lastModifiedBy>
  <dcterms:modified xsi:type="dcterms:W3CDTF">2009-02-02T13:50:42Z</dcterms:modified>
  <cp:revision>11</cp:revision>
  <dc:subject/>
  <dc:title>Slide 1</dc:title>
</cp:coreProperties>
</file>