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51F-C25A-4943-9F54-4858F5F8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E10-C7E8-4C72-A3A8-8BEE6BBC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390-7A43-4762-B6E8-3D4C1F77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869-03EF-487C-941E-130721C4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6F0-2D4B-46EC-A450-A60AEDF6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016-CA12-4DF2-BB98-A61EDFE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A09-FCC1-4854-A88D-4BE13086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58F-9AE2-4A7B-A0E2-81BD113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D18-B842-4BF8-8E98-52F469C4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F21-6016-4F10-88CF-82EA923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EB7-150E-49F2-8CC9-11B849D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6C0-6B00-459D-92CD-9F46B041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A5C0-81BC-4B71-895C-0A0A2AAB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atransportation.us/hummer-limousines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atransportation.us/municipal-bus-line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2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th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71840" y="-1300320"/>
            <a:ext cx="14287680" cy="945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spatial inequa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responsible for fix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90920" y="5638680"/>
            <a:ext cx="4343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push and pull factors that cause people to leave Latin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Census-2000-Data-Top-US-Ancestries-by-County.jpg">
            <a:hlinkClick r:id="rId1"/>
          </p:cNvPr>
          <p:cNvPicPr/>
          <p:nvPr/>
        </p:nvPicPr>
        <p:blipFill>
          <a:blip r:embed="rId2"/>
          <a:srcRect l="1673" t="25552" r="1673" b="4443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562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estry with largest population by coun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does this map reflect abou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676520" y="5105520"/>
            <a:ext cx="571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after the tou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up – Copy this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Characteristics of Spatial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438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057400"/>
            <a:ext cx="8229600" cy="4572000"/>
            <a:chOff x="380880" y="2057400"/>
            <a:chExt cx="8229600" cy="4572000"/>
          </a:xfrm>
        </p:grpSpPr>
        <p:sp>
          <p:nvSpPr>
            <p:cNvPr id="53" name=""/>
            <p:cNvSpPr/>
            <p:nvPr/>
          </p:nvSpPr>
          <p:spPr>
            <a:xfrm>
              <a:off x="4495680" y="2057400"/>
              <a:ext cx="0" cy="45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about to take a tour of 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ny families with different standard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scribe the differences and evidence of spatial inequality in each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2 Hummer Li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371600"/>
            <a:ext cx="4191120" cy="220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Municipal Bus Transport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4191120"/>
            <a:ext cx="4267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– determines how crowded an area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people per square 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Space/person – areas of undevelop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xi 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5:12:36Z</dcterms:created>
  <dc:creator>Jeff</dc:creator>
  <dc:description/>
  <dc:language>en-US</dc:language>
  <cp:lastModifiedBy>CFISD</cp:lastModifiedBy>
  <dcterms:modified xsi:type="dcterms:W3CDTF">2009-02-02T13:50:42Z</dcterms:modified>
  <cp:revision>11</cp:revision>
  <dc:subject/>
  <dc:title>Slide 1</dc:title>
</cp:coreProperties>
</file>