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1FC7-4B34-486C-82E8-B20BA6276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80C1-ED48-4B57-8555-AFA37736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F0CA-5E23-4E92-9E6D-A97E63EF8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1B07-4043-488A-8D96-5432BF631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03B9-3DC5-4A32-8B56-484EDADD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0A51-8025-406A-9B6E-EB6240D7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BFCA-A3D2-4F59-8D11-A96F60B9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1CC8-D91C-4B51-AC36-2C590737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D53A-A669-4EEA-9CB5-885C0D06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C7AF-7E9A-4B90-AF23-F9D3BEA7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28A1-F056-4F38-B04E-A1ED939A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43A7-D6E4-48DF-87CE-13D29FC6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F680-2CD9-41B4-AB68-284FC4941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5/Census-2000-Data-Top-US-Ancestries-by-County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atransportation.us/hummer-limousines.html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aatransportation.us/municipal-bus-line.html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714240" y="-76320"/>
            <a:ext cx="10572480" cy="7010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714240" y="-76320"/>
            <a:ext cx="10572480" cy="7010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-15228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676440" y="-76320"/>
            <a:ext cx="10496880" cy="7010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676440" y="-76320"/>
            <a:ext cx="10496880" cy="7010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-152280" y="5562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ing the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2571840" y="-1300320"/>
            <a:ext cx="14287680" cy="9458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569880"/>
            <a:ext cx="914400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causes spatial inequalit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responsible for fixing i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solve this proble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rections: Under your heading create and complete the Frayer Model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480" y="990720"/>
          <a:ext cx="8001000" cy="524340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Inequalit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. Defini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nequal distribution of wealth and resources in an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How does this contribute to immigration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2590920" y="5638680"/>
            <a:ext cx="43434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#3 and #4 n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sh Pull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list of push and pull factors that cause people to leave Latin Amer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Image:Census-2000-Data-Top-US-Ancestries-by-County.jpg">
            <a:hlinkClick r:id="rId1"/>
          </p:cNvPr>
          <p:cNvPicPr/>
          <p:nvPr/>
        </p:nvPicPr>
        <p:blipFill>
          <a:blip r:embed="rId2"/>
          <a:srcRect l="1673" t="25552" r="1673" b="4443"/>
          <a:stretch/>
        </p:blipFill>
        <p:spPr>
          <a:xfrm>
            <a:off x="0" y="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" y="5562720"/>
            <a:ext cx="8229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cestry with largest population by count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What does this map reflect about immigr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rections: Under your heading create and complete the Frayer Model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09480" y="990720"/>
          <a:ext cx="8001000" cy="524340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Inequalit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. Defini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nequal distribution of wealth and resources in an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How does this contribute to immigration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1676520" y="5105520"/>
            <a:ext cx="5715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#3 and #4 after the tou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tup – Copy this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: Characteristics of Spatial Ine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2438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Standard of L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243828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tandard of L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2057400"/>
            <a:ext cx="8229600" cy="4572000"/>
            <a:chOff x="380880" y="2057400"/>
            <a:chExt cx="8229600" cy="4572000"/>
          </a:xfrm>
        </p:grpSpPr>
        <p:sp>
          <p:nvSpPr>
            <p:cNvPr id="53" name=""/>
            <p:cNvSpPr/>
            <p:nvPr/>
          </p:nvSpPr>
          <p:spPr>
            <a:xfrm>
              <a:off x="4495680" y="2057400"/>
              <a:ext cx="0" cy="457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ur of Mexico 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42670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about to take a tour of Mexico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visit many families with different standards of l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ble to describe the differences and evidence of spatial inequality in each neighbor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H2 Hummer Limo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371600"/>
            <a:ext cx="4191120" cy="2206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Municipal Bus Transportatio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24280" y="4191120"/>
            <a:ext cx="426744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s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density – determines how crowded an area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d in people per square m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n Space/person – areas of undeveloped l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d in square f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Taxi Tour of Mexico 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2571840" y="-1414440"/>
            <a:ext cx="14287680" cy="9686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-2571840" y="-1414440"/>
            <a:ext cx="14287680" cy="9686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-4572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i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3T05:12:36Z</dcterms:created>
  <dc:creator>Jeff</dc:creator>
  <dc:description/>
  <dc:language>en-US</dc:language>
  <cp:lastModifiedBy>CFISD</cp:lastModifiedBy>
  <dcterms:modified xsi:type="dcterms:W3CDTF">2009-02-02T13:50:42Z</dcterms:modified>
  <cp:revision>11</cp:revision>
  <dc:subject/>
  <dc:title>Slide 1</dc:title>
</cp:coreProperties>
</file>