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636B-F76D-44DE-8F0D-818FB864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3086-EC55-4BB5-A46D-DBDD0FE2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0003-302D-435D-BDF7-99F7BB68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7EA9-8693-46A0-9A59-84C2EB07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E040-4710-4A45-A4E6-E950CD8D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40C6-FF1F-45DF-93BF-46FE8F18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CE47-AA30-46E5-A30E-8CB3290C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855C-81F5-4B06-B2A0-84E4404B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5D85-1E73-4F74-96AA-44D9E9E8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7C81-B7D4-4576-B8C7-9472E37F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CC87-4768-44BE-9124-F6EBE972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F5EF-7847-4319-ABE8-FF53E4FB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5F43-4436-4B56-8E33-267367B91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5/Census-2000-Data-Top-US-Ancestries-by-County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atransportation.us/hummer-limousines.html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aatransportation.us/municipal-bus-line.html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714240" y="-76320"/>
            <a:ext cx="10572480" cy="7010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714240" y="-76320"/>
            <a:ext cx="10572480" cy="7010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-15228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676440" y="-76320"/>
            <a:ext cx="10496880" cy="7010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676440" y="-76320"/>
            <a:ext cx="10496880" cy="7010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-152280" y="556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ing the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2571840" y="-1300320"/>
            <a:ext cx="14287680" cy="9458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569880"/>
            <a:ext cx="914400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causes spatial inequalit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responsible for fixing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solve this proble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Under your heading create and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990720"/>
          <a:ext cx="8001000" cy="524340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Inequalit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. Defini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equal distribution of wealth and resources in an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How does this contribute to immigratio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2590920" y="5638680"/>
            <a:ext cx="4343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#3 and #4 n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sh Pull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list of push and pull factors that cause people to leave Latin Amer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Image:Census-2000-Data-Top-US-Ancestries-by-County.jpg">
            <a:hlinkClick r:id="rId1"/>
          </p:cNvPr>
          <p:cNvPicPr/>
          <p:nvPr/>
        </p:nvPicPr>
        <p:blipFill>
          <a:blip r:embed="rId2"/>
          <a:srcRect l="1673" t="25552" r="1673" b="4443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556272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estry with largest population by coun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hat does this map reflect about immigr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Under your heading create and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09480" y="990720"/>
          <a:ext cx="8001000" cy="524340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Inequalit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. Defini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equal distribution of wealth and resources in an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How does this contribute to immigratio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1676520" y="5105520"/>
            <a:ext cx="5715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#3 and #4 after the tou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tup – Copy this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: Characteristics of Spatial In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438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tandard of L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24382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tandard of L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2057400"/>
            <a:ext cx="8229600" cy="4572000"/>
            <a:chOff x="380880" y="2057400"/>
            <a:chExt cx="8229600" cy="4572000"/>
          </a:xfrm>
        </p:grpSpPr>
        <p:sp>
          <p:nvSpPr>
            <p:cNvPr id="53" name=""/>
            <p:cNvSpPr/>
            <p:nvPr/>
          </p:nvSpPr>
          <p:spPr>
            <a:xfrm>
              <a:off x="4495680" y="2057400"/>
              <a:ext cx="0" cy="457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ur of Mexico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2670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about to take a tour of Mexico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visit many families with different standards of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le to describe the differences and evidence of spatial inequality in each 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H2 Hummer Lim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371600"/>
            <a:ext cx="4191120" cy="2206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Municipal Bus Transportati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4191120"/>
            <a:ext cx="426744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density – determines how crowded an area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in people per square m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 Space/person – areas of undeveloped 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in square f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axi Tour of Mexico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2571840" y="-1414440"/>
            <a:ext cx="14287680" cy="9686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-2571840" y="-1414440"/>
            <a:ext cx="14287680" cy="9686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-4572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05:12:36Z</dcterms:created>
  <dc:creator>Jeff</dc:creator>
  <dc:description/>
  <dc:language>en-US</dc:language>
  <cp:lastModifiedBy>CFISD</cp:lastModifiedBy>
  <dcterms:modified xsi:type="dcterms:W3CDTF">2009-02-02T13:50:42Z</dcterms:modified>
  <cp:revision>11</cp:revision>
  <dc:subject/>
  <dc:title>Slide 1</dc:title>
</cp:coreProperties>
</file>